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B235-61A9-46C5-9F5B-B225102C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F2C2-2F87-419C-A7A8-A7A4F2FE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543A-A770-4D39-B87B-F965BFF4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905C-4984-47D7-8F0F-CFA87F36B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2DDE-E149-4E85-A11D-A1C80670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FD02-67F1-4092-9DFA-B34BAABF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1CBF-ADE4-488E-9A2C-D1E1C55F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4B8A-FAB0-411F-8A75-FBDAD8D8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593A-DA58-4B2F-8B45-CD5A61D9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BB74-7826-42B9-A230-6EB0A73F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7FDC-2032-48A4-8B10-73C5FC09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2314-6120-441C-8278-ED8DA5FB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336D-F55A-4949-AEDF-A4B62151AC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ortgage-site-tools.com/products/" TargetMode="External"/><Relationship Id="rId2" Type="http://schemas.openxmlformats.org/officeDocument/2006/relationships/hyperlink" Target="http://www.mortgage-site-tools.com/products/" TargetMode="Externa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f0f"/>
                </a:solidFill>
                <a:latin typeface="Arial"/>
              </a:rPr>
              <a:t>Online mortgage calcul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9951"/>
                </a:solidFill>
                <a:latin typeface="Arial"/>
              </a:rPr>
              <a:t>by mortgage-site-tool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59421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  <a:ea typeface="Arial"/>
              </a:rPr>
              <a:t>© Mortgage-site-tools.com ’04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f0f"/>
                </a:solidFill>
                <a:latin typeface="Arial"/>
              </a:rPr>
              <a:t>Easy real-estate math calcu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Amortization tables comes with each calc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Wide range of mortgage calculation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Adjustable interest compounding and payment peri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Initial values customization for any real-estat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Simple and easy 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59421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  <a:ea typeface="Arial"/>
              </a:rPr>
              <a:t>© Mortgage-site-tools.com ’04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f0f"/>
                </a:solidFill>
                <a:latin typeface="Arial"/>
              </a:rPr>
              <a:t>Simple integ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Installation takes only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Full Cascade Style Sheet (CSS)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Software is template driven and visual style can be completely remode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Multi-language enabled (at this time only English language pack comes with distribu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Customizable currency symbol and numerical delim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9421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  <a:ea typeface="Arial"/>
              </a:rPr>
              <a:t>© Mortgage-site-tools.com ’04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82720" y="1600200"/>
            <a:ext cx="318600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f0f"/>
                </a:solidFill>
                <a:latin typeface="Arial"/>
              </a:rPr>
              <a:t>Want more detai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1413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9951"/>
                </a:solidFill>
                <a:latin typeface="Arial"/>
              </a:rPr>
              <a:t>Visit online demonstration p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98880" y="2060640"/>
            <a:ext cx="47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ortgage-site-tools.com/products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2637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9951"/>
                </a:solidFill>
                <a:latin typeface="Arial"/>
              </a:rPr>
              <a:t>Place a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3240" y="3357720"/>
            <a:ext cx="44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</a:rPr>
              <a:t>http://www.mortgage-site-tools.com/order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604044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9421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  <a:ea typeface="Arial"/>
              </a:rPr>
              <a:t>© Mortgage-site-tools.com ’04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20:43:29Z</dcterms:created>
  <dc:creator/>
  <dc:description/>
  <dc:language>en-US</dc:language>
  <cp:lastModifiedBy>Ivan</cp:lastModifiedBy>
  <dcterms:modified xsi:type="dcterms:W3CDTF">2005-04-20T22:56:31Z</dcterms:modified>
  <cp:revision>4</cp:revision>
  <dc:subject/>
  <dc:title>Online mortgage calculators presentation</dc:title>
</cp:coreProperties>
</file>