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9419"/>
        <c:axId val="30192264"/>
      </c:barChart>
      <c:catAx>
        <c:axId val="23294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92264"/>
        <c:crosses val="autoZero"/>
        <c:auto val="1"/>
        <c:lblAlgn val="ctr"/>
        <c:lblOffset val="100"/>
        <c:noMultiLvlLbl val="0"/>
      </c:catAx>
      <c:valAx>
        <c:axId val="30192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4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38A-9884-43FE-AFAA-3469F8E49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8C0-DC2A-4DC4-9755-B827631A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1A7-720E-4E09-9E90-0DC43E5C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ED0-6E92-47AC-B1F3-8833AE6B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9FB-C0D5-477F-AD3D-F2785DB8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3EE-4C8F-43AC-8EBA-F36581F5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D78-5AE7-45D4-ABB3-D6ABE1E4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5B3-6301-40A7-8FF4-6EAEC9A9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DFC-264D-4D27-9E7B-17BEA1DB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640-C0FC-42D2-9F83-7D4FA98A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7C01-70EC-4E56-8E90-DFB3174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A94-B112-4A50-A564-1E5A4490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17A05-1505-4314-A7EC-FB46EEF51F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