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898596"/>
        <c:axId val="42789843"/>
      </c:barChart>
      <c:catAx>
        <c:axId val="289859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789843"/>
        <c:crosses val="autoZero"/>
        <c:auto val="1"/>
        <c:lblAlgn val="ctr"/>
        <c:lblOffset val="100"/>
        <c:noMultiLvlLbl val="0"/>
      </c:catAx>
      <c:valAx>
        <c:axId val="4278984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9859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B1624-B2B3-42C8-8D14-2EF4ED273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9CB46-2401-42D4-B653-6B4F31710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6C305-EB65-4FEE-A93D-CCE608FCB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A50D7-12CF-4FD0-8DA8-2B18E931B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F21E4-23FA-4D08-A7FE-810128713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631DE-4C89-4ABC-B37D-BBBF93B38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49431-4A31-4119-BEAA-417C950E9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76829-F8D5-432E-B1BD-A484F397A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355AB-90FE-40E6-9C19-4B85E1D2E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7210E-DF8C-4032-8A34-22CF530E4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27442-E015-46C2-963A-F80B68A4E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0127C-B38D-477A-A8AA-7411E3BEB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F8BB7E-1EBF-493D-9C03-45AC55A4CBF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