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28367"/>
        <c:axId val="13863924"/>
      </c:barChart>
      <c:catAx>
        <c:axId val="64528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63924"/>
        <c:crosses val="autoZero"/>
        <c:auto val="1"/>
        <c:lblAlgn val="ctr"/>
        <c:lblOffset val="100"/>
        <c:noMultiLvlLbl val="0"/>
      </c:catAx>
      <c:valAx>
        <c:axId val="13863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28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8420-8016-47A4-AE30-B513212E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602-9B11-45ED-BB74-F65D65DA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DB6-D03E-44BF-9BBF-9C3904BB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BF9-9856-4CE9-A826-D9120B5A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F1F-AFC3-442C-A81F-6991DE4A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92A-DD81-4E5F-80BD-834D95B3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DCC5-7B05-4A95-BAEE-A5145E9D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CF7-2A7B-4E41-AE14-E6656A14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7AD-8345-46A4-8B99-E21D4279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6FC-D66B-44DE-A9E3-8C670AFD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A954-0C0D-478C-9976-6D91CFE0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86F-CE04-42A3-AEAA-7BA20295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CB1EC-6C3C-4F42-94A4-C867077554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