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707C-155B-4660-9E22-D755ED38D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EF08-B577-4E27-8918-8A7CBFE33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D33F-DFCF-482B-87EA-7124BA235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5394-6B8B-4514-BFA0-A735B9FEC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175E8-88DE-4043-A3F1-D5EE47AB6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E1876-6BB0-4EAC-A9FA-F9C960948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7C794-40E0-4BD5-9573-F541B9841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DD2E6-E160-42E3-BD7C-8ADFD1C14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CAB43-E787-49B2-B8A8-A0E9FFE8E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14FC4-C7E1-4D48-A141-79A662C68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B4AF7-49E6-4CE6-883C-CF2766ED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4875-9A08-4D78-8C68-03AB08CA4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E42C8-31CB-4AA5-A88F-152BD478E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F3705-4AD2-4418-8538-E7BE914CB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E99A8-D58E-49B7-8285-BD5E872F7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87163-A818-4D85-843E-7B573A5A1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C6FBE-9105-428D-A1A4-4ECF00335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B02B-40E1-4AA6-8DA8-4BB404162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694B-EA70-47DB-B562-BE0007028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4EE5-E08C-443C-8290-8CBB9BA8F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8CBF-BBA6-4630-9D32-E9612F381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F4D2-EA90-4C1D-AC26-D35462F7C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F56F-D936-48D6-96FB-04104AE7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DFE6-D66D-44DF-8010-DAFDFEEDB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F4151-7E1E-46CA-9318-0DDC0FEB34A0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90720" y="6248520"/>
            <a:ext cx="7697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Parallelizing John the Ripper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pring 2004: GCMPS 240A: Project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arallelizing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John the Ripper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ndy Pippi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rendon Hall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Wilson Che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6D288-3D48-4AE7-94B5-B3E2BAB0483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52480" y="2238480"/>
            <a:ext cx="6248520" cy="418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2EE1-F6F6-4858-AED8-E1DDFEC2B3A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hieved nearly linear speedu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ork sharing provides good trade-off between load balancing and complexity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2CCA-6925-450A-8744-EF5228E8237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urpos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eate a tool for system administrators so they can quickly scan for weak passwo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how to parallelize existing serial progra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8B3F-9A0E-436A-9A34-877C76B2360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ssword Cracking Metho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rute-for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fallible, though time consum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 character passwords with 95 different characters = 6 trillion uniqu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es pre-defined word list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ssible”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ules can be incorpora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922A-44B2-41EB-B11A-19EC1238F57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revious Work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blecrack (SDSC, 1997) and Teracrack (SDSC, 2000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yan Lim (UNL, 2003) parallelized John the Ripper 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 for brute-forc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for cracking singl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6101-F865-4A74-8E9E-07489DC8D11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Approach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iz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 dictionary styl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Check for weak passwords quick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nimize modifications to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ore co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centrate on an efficient parallel implemen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B9B4-927B-41F3-9FBF-133E4B0CF81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NIX Passwor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2 - NIST wanted a cryptographic algorithm for non-classified inform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4 - IBM submitted “Lucifer” (128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6 - Data Encryption Standard (56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idely adopted by indust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n Microsystem’s uses DES in their distributed password scheme: N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ample of an /etc/passwd entry using D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user:HFnZbS4XGNtEM:12015:12:John Doe,,,COMS,Graduate:/cs/student/user:/bin/tcsh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385F-20BD-400C-B3EC-0F10532CDF9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rallelization Schem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ss memory, but more coordin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password fi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more memor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ad balancing issu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ssumes every password is of the same difficulty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D176-3C2B-4EA5-AF3E-25244F8AE39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Metho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‘Poker Dealer’ (work shar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nd out encrypted password as requir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each process to have complete dictionary in memo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sswords with the same salt are given to one process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B7D4-6C11-4A38-B69E-54EE4142242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erformance Metric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acks/Sec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reported by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Jt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 versio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adds value reported by each worker process, recalculates to account for communication ti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7102-A9F3-4F63-BC01-F7F8956146C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21:57:01Z</dcterms:created>
  <dc:creator/>
  <dc:description/>
  <dc:language>en-US</dc:language>
  <cp:lastModifiedBy>Admin</cp:lastModifiedBy>
  <dcterms:modified xsi:type="dcterms:W3CDTF">2004-06-02T06:57:17Z</dcterms:modified>
  <cp:revision>17</cp:revision>
  <dc:subject/>
  <dc:title>Parallelizing "John the Ripper"Ripper"</dc:title>
</cp:coreProperties>
</file>