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56535"/>
        <c:axId val="32267295"/>
      </c:barChart>
      <c:catAx>
        <c:axId val="87556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67295"/>
        <c:crosses val="autoZero"/>
        <c:auto val="1"/>
        <c:lblAlgn val="ctr"/>
        <c:lblOffset val="100"/>
        <c:noMultiLvlLbl val="0"/>
      </c:catAx>
      <c:valAx>
        <c:axId val="32267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56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6FD-8DC2-4600-8678-006A1120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D39-8BAD-4869-BA6E-EC94D175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A46-3497-43E3-9E2D-5CDB0BC7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F02-B2EA-4267-AAE7-D8CC63FF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25E-E36A-42EC-B27B-4F8BF4B2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3DB-BEC7-4070-823C-F8D2F1A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FDC-9419-403A-B134-A9CAAACA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82A-FA94-40BD-8AF0-2321B8A8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9BB-1B0F-4CBA-BF76-072217D2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5F9-39F2-4E23-98E9-DC6BF63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074-BDB6-4780-B954-9B799D7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693-E073-4671-A64D-38399C8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8F9C3-EE66-4827-8CD1-806D423641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