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00502"/>
        <c:axId val="50551852"/>
      </c:barChart>
      <c:catAx>
        <c:axId val="28900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51852"/>
        <c:crosses val="autoZero"/>
        <c:auto val="1"/>
        <c:lblAlgn val="ctr"/>
        <c:lblOffset val="100"/>
        <c:noMultiLvlLbl val="0"/>
      </c:catAx>
      <c:valAx>
        <c:axId val="50551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00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5D4-A015-43FB-96D2-81627318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243-3213-411E-9FE3-958B578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154-1521-4438-ACE9-74B53523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B0E-0FC2-4DC5-87A6-C88F7D4C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479-BDA1-48A5-8ACF-C4250547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A94-E211-4A19-A99B-899F44E4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0F8-EC73-46C4-A19F-E77738DF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10D-C98B-4564-8F8F-CA0762B2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0DA-475E-401D-84C1-692D23D3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EE2-934F-4495-A85C-BB297E07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6FC-9A23-4C87-8DCD-F23CA0AB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51B-B877-4907-AEF0-1A4F99D9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D700C-3132-4FC8-BEAA-D4C51FC874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