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FBC26A2-58CF-4F97-8982-9084E4FEF31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C85765-365E-48F3-8798-AB7CBA7FA25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EE42295-991E-45D5-9018-485455EEC31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33AD8008-5887-4236-A009-98B1E92FC82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95FAC9A-2243-4ED9-96D8-5B54A239A5D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D52FB21-8D03-4548-B57B-996BA6A412A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C0C2781-E961-4248-A54D-F0F22565BA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D56DEE6-B980-46A7-9F50-8A5F701B0A2A}"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DECA0D2-F8D5-462A-BAFD-95D71F0294B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57FA6A1-C465-4483-8A9C-CF8F78A00EA1}"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0BFF661-56AF-4983-AA40-5AFF81A3A6E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F4E33B8-C91E-4ACF-B4FC-40BDE1CC69E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EF56A41-096C-466B-A0B6-F5F32C84670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4477DB8-40D7-4097-B931-B3CAA5D11AA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FEED283A-DE06-4BEB-B754-2E3BAAD482A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25EF7C4-69F0-427F-ABE9-ECAAC369AB6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9D27A158-DD78-409E-A534-4AB9B02AAAF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C1EAF6-62BA-428E-9AE0-37A4EB4BAC7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5A3DD73-632B-4B17-9F27-024C62846F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84104DD-5A03-4E50-B161-6B0DDD3C83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23BFF8B-DAD6-4840-997A-BF525B243E4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C58027A-6249-4AA6-B3C0-3F69D131DF0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995F1ED-6524-40B7-9459-8D942036E2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0B0228-BF78-4725-BBEE-462BF072C5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29A308F-E6AB-434F-B7C7-49625AB06C19}"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29BD-EBB8-4894-8040-65C73AA5B25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FE9C598-1D6E-4A73-B4E8-24F51D73DB9E}"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394DDDF-0E0F-47FB-9C7B-745988F9C8FA}"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FD861D-00CB-4A9F-943E-DCB0B9B77F8F}"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1E62FF-7FF7-4B9D-B387-D966269C0049}"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B1A63C0-5D51-4218-9223-2809843195F5}"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68014E-4089-46AD-B40C-D9197BD891C5}"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EC570-5D80-4B0B-A222-AF76CBFC0A10}"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145C015-F834-4448-B4C2-5A13CF6F3009}"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114F49-501E-4751-9A61-ED7F04ADDD86}"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0D2C4B5-6B55-4D89-9A0E-84A38E7A18C6}"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CB2DB1-1604-4BF3-BF4A-6CF1FD855A5B}"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F9A80D-C150-427D-8D5E-5F9EDDECC9BF}"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06A817-CB72-43CB-9D13-155E1FC43895}"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3A852-2277-442A-9FAB-1BAEF7911EB1}"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0DA6F9-C5E4-4710-B2CC-9DD243FD893F}"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0620D-1F9E-40ED-A6B1-71D8F961E84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ECD778-CE1E-493D-B27A-34391A919CA8}"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F22FA0-1D4C-4C03-82AB-C58995F00BD2}"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E9FB0-6FEA-4318-A0C3-015483D67B93}"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8F373C-C341-4CC1-AE52-DC8CBED5306F}"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957751-56EC-4470-B164-FDB26AE20E0D}"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2717B8-13F8-45EF-92CE-72F07138DBF9}"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37DEE4-C866-4BCB-9F37-1B007F9B6717}"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6D6A793-85D2-49CC-ABBA-C5089C6A3349}"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465322-32D5-467A-B37E-6FE17C7F8B9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D075FB-398F-4C27-A905-3D7B59832792}"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AABC5A-3200-4492-9851-F53A4E7E0B63}"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4C50981-2B9C-47C8-B5C6-6FDBC6D96AC4}"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3A775-CF84-40AD-B0E5-F0450C7BF246}"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53F187-395A-4401-ABC1-82B3A1E81FCF}"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CAC3B3-A55E-4D60-BCF3-7D5EB6AC115A}"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F3332C-E075-42CF-9924-CC239E17C74D}"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DF77BE-EF56-4B12-A9EF-8FDD398F17EB}"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343BAF8-EA07-41CF-BBE7-13D6B931A3E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606A39-E9FC-4ED3-9DD2-D52484625174}"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6E86C-3A67-4355-B39B-241368224E4F}"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B2304C-AFEF-4029-89D8-B98DAEBB4FAA}"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A1639D-FC5A-4B8A-B413-E07F0B491F8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4C74D3-1E0F-41EB-AD8A-0BA481DCAAAC}"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6A4A83-F3A1-48FD-9EC4-C70244AE14E7}"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6BE608-7C4B-4BF1-8E9C-E20CFDEA7D7F}"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213BAD-80A0-4288-8B14-60A84DB8E5D9}"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E1DFC3-601C-4DAD-BB44-FB6D374BFE3E}"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892A13-A7F7-4511-8AC5-BE7A351C83CF}"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92CE93-C18A-499B-8231-AF342B65791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0E8521-8A55-4B8B-A972-6EDC82020B89}"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9152C3-0E06-460F-94C1-77A950880C46}"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FC1FF6-F26F-421E-BDB0-E6F8B870D4E0}"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5897EDC1-3FA0-4707-BFE3-0A5BDBC77C14}"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C8BB0C-7DEC-4411-AA1E-52E688DD4358}"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7847D9-AF7A-4F04-A600-BDF11A1F67C9}"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1BA0B5-0B9D-407A-AE0D-D49B9F23730B}"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2D02CE-CEF9-48C2-AB0B-4D5D3CBD6998}"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3794F-B3FB-4844-9A51-522DE6E71E0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FF9437-0F95-449A-8EF3-B5A413C7272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F17CA6-94A7-4D7A-B7E0-4AA89EBC2CEF}"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268CC9-93C8-4940-885D-543C84CE437F}"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885F77-3861-4D1B-A79F-BA15FE8408FB}"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5D87C3-9A77-44F9-A1C1-6EDCA350E4C4}"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5D8C3BC-3F3D-4873-BED3-766750D1F15F}"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22BD5-4070-46E0-A8CA-7B5F15AE9479}"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CE3F0D-D44A-499A-B1CD-8DDF510453AF}"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F5DE5F-10AB-4D3C-8870-AA03BB16A502}"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8B8B151-F473-4965-ABD8-F32F11113235}"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63AC84-AD7D-4B83-90F6-0893573DF9C7}"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889BA06-1A4C-4CFB-8853-FBFDD66574BE}"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E5B7BD-0E79-4CA6-A5F0-6014A3350F47}"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C26CEFC-75B3-4BD1-ABA3-23AAD452D519}"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E3C3CC-0056-4CBD-B2E5-EEE4FD571A6B}"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1FF397-171A-4353-802B-1BF75D5ED2EA}"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EAEAC6D6-723B-4D99-B4AB-BFCE311431B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B74846-B467-44EE-9AAB-3CF8FF2B567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2D271E-7E88-41F6-ABB8-F0250899B06E}"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553966-7C94-477F-85DB-8E90C5F4C444}"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9C4704-7278-4996-A010-1C25689A151D}"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68D9F1-86B8-484D-8D38-FF49921473F5}"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6F942F-C102-46DA-8630-9D898228F523}"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86422D0-B971-4CA9-A2FE-BB93706D80E3}"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A4FBF8-FC70-488E-9FE2-8298E3E552CC}"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90F2FD-CC79-4604-99BB-5BF4BD6F6420}"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AA75C6-199B-4601-90F9-44E2213175A4}"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1AD0FC5-03B6-402D-ADDE-3110AB501D69}"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C1C171-A476-471A-883B-858357F45ED6}"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71261E8-A21A-4DAB-984C-967D3035A74E}"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D4DA20-5EE1-4161-91BA-C94A2BAE1FF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73A33-BC89-4ED3-8001-9EAB421F656F}"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171B53-E389-45FD-9F9F-0D6B709F575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31663BF-29C8-4969-87DE-B221068DFA5D}"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5B2986-09AD-454C-8FCF-465EF2233D12}"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586579-7904-416A-BA6B-DD2805C80A32}"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6B634B-FA3E-47C9-8DB3-4706EEA049E9}"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11595E-F467-463F-A5CC-BF15D4C4333A}"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E46894-CD24-4C2D-8B1A-10709383C89D}"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605D12-274F-466B-BA73-DDC25E194CED}"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3D08207-827A-4E8B-A941-27F35E7621A2}"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E61B7B-A1F9-4CFC-BED8-245224C446E8}"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B2E414-F97C-48E1-9508-7F9E6877FDBB}"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BAE00C-3174-4EC8-AB9A-DE2380AC0F59}"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28D508-D91F-4ECA-BCE2-541DBD27880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D5FFEFE-10BE-4DD8-AC10-CD867F489934}"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0C6914-AC27-4B8B-A6E9-CBE2FA433E5F}"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46BD1A-AF39-41FD-AEE8-85D2A39714DC}"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8A7669-05AC-4862-BE23-AF8E697B1A84}"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B47F9B-EFEB-41FA-B630-D26C2497EDB1}"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CBCA30-3FF6-49F8-88AF-73D0F0785A26}"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040445-FFF4-4BDC-A16C-C5D05FAFEDE0}"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B3BE97-09DC-4A93-97D5-2BE177CEA2F4}"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5F5C690-2D7B-4093-997D-F43DE78E500A}"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94562-D0E3-4875-87AC-864AC2B16B11}"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267B05-3891-4753-9478-632956C66212}"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26F9F7-4914-4927-817D-6D8F97D6E94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41ACEF-6E59-4938-A2B9-6DE7793BEC1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AA59555-1326-4637-B368-8BF2349CD363}"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138E4-B00A-4147-BD3E-8E71E6DA3434}"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9E0C846-B560-4450-9A21-D39355B2B565}"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28782B-ECA1-46BE-8F0A-12E83CB00B73}"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3BFD40-2137-4D51-ADF8-B9721C5902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BDCF9E3-CABF-4965-8C81-2B92718CC208}"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310360-F94F-46ED-8D35-B9D2CDF9FC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49E4AD-3764-4E90-ACF6-4887EE428714}"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B2D946-2AC6-4C76-9F40-CD90D454FEC2}"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4D0149-5C98-4FAC-BF08-8E1EB3F88BCF}"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482A30-0B80-4C83-B427-A9128EA71DC0}"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C8F767-1273-4333-A4F2-0C4D7ED2FF6F}"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F31D80-0448-45C1-88ED-1A88CDD41A68}"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45934-D647-4B35-848A-92DFC1803E73}"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5C88E6-BDD1-40FA-BF34-FFD9CA67D006}"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0CC14FA-8F7E-44B9-BF45-25389895ED21}"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FD8C660-4887-473E-89CE-8D3BD4D8E743}"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521516-55AD-42E3-9573-FB58733BFC8C}"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C0CC58-A6D4-42DF-A763-FF63CA3E02A0}"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EAE6A2-C1A1-4CD5-81A3-76BF25378530}"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1436C8-A2FD-4185-B452-53539606AB1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B4784D-E868-47EA-B04F-59C8A5DD952B}"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CE67023-2805-4D8C-B5BB-9C4387293E97}"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D9AFCE-9F0F-4E08-AAE9-2BB927EF767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B5AD93-1452-44AD-BBAF-899EBAF74B6A}"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065B-7962-4877-9E82-509757D5903A}"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60024F-4CEA-4473-A3AF-433C694641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ADC70A0-953F-477B-9248-C6054E75FF41}"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FE36C6-9FDC-49C5-94AA-81C7193569CF}"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08D636-F03D-464D-9B1C-607F8B9FB943}"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3D2D3F3-8F95-461A-A6D2-85D7F278B7E0}"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459A7C-652C-4E1E-9356-46AFB77E5D89}"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8408E7-3720-470D-9D26-D2A640834D47}"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0A2FFA-02BD-4423-ACA7-B74DAEACBBF7}"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8BBDF5-EC27-4E9A-B605-7001838C65A5}"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1777973-B361-4539-895C-E6B1DBC8270F}"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EF462C-973C-4DEC-BDBF-0A268D690A17}"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43E942-2ECB-4731-8179-C90CA3831B0D}"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56A02B-B60B-4F19-9F21-097D3489F82B}"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6C9661-C873-4DB1-9391-FD67AAABE1E0}"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BB7570-D069-445E-966D-14778A1FCAB8}"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E82C85-48A1-409A-AB0C-54787D4FFE63}"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E0C877-7F22-4E5B-9381-C70ABBA78700}"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3E50D66-4248-4B9F-A8B0-6BADBE004B9D}"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FE0763-7275-45B2-890F-A6B34C6B4FA3}"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5960C1-6A45-4A67-AB2B-1D93F94F61FB}"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0FF559A-A873-482C-9C14-B91EACDC581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EA6D0C-F6A5-4297-893B-F49FABB81CB9}"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5ACF17-7E6A-42E9-BF9E-108FB91BDBA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852349-A0C5-43AE-BCE3-B9624AEAB922}"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77375-63C9-4750-8BDA-5D04E5D6452C}"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75E921-DAEA-4B39-AC73-9DE8C2E6F17D}"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E2C7A-9997-43B5-8F75-2F65F28A26F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773A77-9688-49A8-91E0-4AF85EE51159}"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AF01790-84CF-425D-ACA5-16C9E893E54F}"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102E27-2156-4BF9-B31F-2CDDC561AC65}"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3895D1-9553-455C-BC48-8CF6A4AFF809}"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0B65993-6488-4601-9E31-853095B681DE}"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6A1461-5633-4E79-8284-BE57D28D078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4D8743-D2D4-4FD3-B5FD-6A8318F94939}"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5A01BA-37F6-41B8-B624-AE9EE3F110A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688D39-5462-48CF-A3E1-18BE9370EB9E}"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EDE09F-8CFF-48B3-8C9F-47BA95FFC9DF}"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8994146-9516-412D-BB81-A046EB8054EB}"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1BF34-C9CC-4B40-8529-02815C5B4D01}"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FCD665-F6C6-461F-9ACD-FEB9D45C37C6}"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6DB632-3052-404F-AB67-184BBD96C738}"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62E8F8-B15C-41DD-A290-C794926CAEFC}"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086F9-A1DB-4991-9587-18F35F768951}"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A13E37-656F-42C1-BD60-B1264A824E86}"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9B7502-3225-47C2-A7D3-324A1FC0DA71}"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11019D-48EE-4199-8F1F-46534FCFBB4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CD4ED74-A8B1-4EF7-A67D-E06D6D3DA551}"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68F3D0-3DB8-48DB-80B7-0941CCF52FC3}"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421972-426C-4732-B7F6-929DCADE66E6}"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F459E9-169C-46E9-84E9-42463709320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B29366C-AFCC-485C-A90E-C85E0832F56B}"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C643EF-455F-4AEB-89CC-03A10D7688DE}"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A9084-51AF-4B13-8437-1FC250A5FCAB}"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46F355-2FDE-404D-ACFF-B1EDCD68DA0A}"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096A76-0389-4AC6-9A21-3FB03401AE6A}"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08B2B5-516C-442F-8A3F-447944587461}"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0C89D6-A302-449E-8DB5-A7E840CADE7D}"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EF81A0-E919-4E5C-9707-6D4D5B4FEE03}"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E17F44-A82D-421D-B960-C42741F9CDB1}"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DED8C8-F4E7-41A8-9633-D7A6C2D9924C}"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8F2347-DA62-41DE-AD33-BDB6EA1ACE4E}"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E9109A0-6F51-4CAB-91F5-0BF2E5552403}"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C358264-A376-4ECD-B274-4496D427BF7A}"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C6E83E-FD51-422E-BA6A-F5A5F3CA214F}"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D82B6E-BB9B-4624-9CF2-FFB2F597A37F}"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8A1662C-7E1A-4D1F-B8F9-D11D6922E963}"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5CA521-CAEF-4FD9-93C6-6F0B50734CB4}"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6E47A-B9D3-4A81-978E-D445DBBCD987}"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0B58E6-8707-4A6A-BE3B-F5C072108724}"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DBE55C-5E22-4821-A689-B496A63B3C6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E522566-1E29-4369-83BA-3595E9BC894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1D9234-AD2D-4111-BB60-24D0F7445B9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B9646DB-4477-4ECB-A223-6677F22EF20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D376F9-54D3-42B9-873D-4030F05DDFA3}"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8E783-3A39-4F79-BD45-A573806095F8}"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