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F808-D286-4D98-86DC-2A967FACA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1608-3BFD-4EDC-861D-76D06AD4E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1E81-3CCB-4A19-B301-AFA0A00A8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3E21-AC4E-428A-8EC2-2683F9334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BFA52-2A68-42BD-B66F-9242CF9EF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50362-EC8C-4141-86B1-8605C6943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9F749-9FC8-44B4-930E-B93C3F028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3564B-4F1B-4493-81F7-266329F61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F0FB0-D1CF-4A8E-B78A-6FFC8C83F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0F192-4D0E-4C2A-A87B-7DED72CB2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34A97-E210-4847-90B2-216A06BB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4B6B-53CB-46F4-84DD-7023327F5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3489A-628D-4459-8113-227623E63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563B2-C780-4D9E-9860-42C246B8E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455D1-1D8F-4562-B7E3-6046D36E5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2EF4F-6F35-4C9B-94CB-3C3340520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C1F3C-6128-4806-9046-6A8BE2915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093A-B451-4146-872E-B5E4B0D22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FF35-CE31-4FC6-BD85-B94787EB2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E57B-0F09-4FD4-9974-99A9AF1F8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9285-8F9E-45FA-B61D-8232594E9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3E3B-CEE1-4837-853D-5081CEC17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C531-F4BC-44FE-A8B2-A04DD323C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EBBC-49FC-40B6-BB2C-3FA23A9B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30DDD-B4D2-4C3B-8094-BB75F23AAC63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90720" y="6248520"/>
            <a:ext cx="7697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Parallelizing John the Ripper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pring 2004: GCMPS 240A: Project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arallelizing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John the Ripper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ndy Pippi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rendon Hall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Wilson Che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704C4-1B7E-48D1-90C8-2F8AE27575B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52480" y="2238480"/>
            <a:ext cx="6248520" cy="418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6064-8A03-49CC-9BAA-DCA4EB29D52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hieved nearly linear speedu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ork sharing provides good trade-off between load balancing and complexity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E947-6634-46E9-8B24-71F467650FD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urpos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eate a tool for system administrators so they can quickly scan for weak passwo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how to parallelize existing serial progra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17CD-DFA4-44DA-8F7B-854082069D6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ssword Cracking Metho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rute-for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fallible, though time consum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 character passwords with 95 different characters = 6 trillion uniqu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es pre-defined word list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ssible”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ules can be incorpora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F262-8A6F-4DE4-BA71-8636AB0A64B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revious Work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blecrack (SDSC, 1997) and Teracrack (SDSC, 2000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yan Lim (UNL, 2003) parallelized John the Ripper 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 for brute-forc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for cracking singl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4A16-5168-4026-9C4F-1BF36166F23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Approach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iz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 dictionary styl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Check for weak passwords quick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nimize modifications to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ore co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centrate on an efficient parallel implemen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C465-159A-4162-B4C9-659E0B470B8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NIX Passwor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2 - NIST wanted a cryptographic algorithm for non-classified inform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4 - IBM submitted “Lucifer” (128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6 - Data Encryption Standard (56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idely adopted by indust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n Microsystem’s uses DES in their distributed password scheme: N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ample of an /etc/passwd entry using D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user:HFnZbS4XGNtEM:12015:12:John Doe,,,COMS,Graduate:/cs/student/user:/bin/tcsh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9F9A-C3FF-4B37-B19F-9B23FE1D891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rallelization Schem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ss memory, but more coordin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password fi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more memor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ad balancing issu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ssumes every password is of the same difficulty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3F1D-8CED-4AEF-BEEC-468A7C5AB25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Metho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‘Poker Dealer’ (work shar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nd out encrypted password as requir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each process to have complete dictionary in memo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sswords with the same salt are given to one process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CC37-C9C8-4A37-A91A-310905D6F4B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erformance Metric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acks/Sec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reported by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Jt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 versio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adds value reported by each worker process, recalculates to account for communication ti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D911-70D4-4307-A05E-3C6DB1CB30B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21:57:01Z</dcterms:created>
  <dc:creator/>
  <dc:description/>
  <dc:language>en-US</dc:language>
  <cp:lastModifiedBy>Admin</cp:lastModifiedBy>
  <dcterms:modified xsi:type="dcterms:W3CDTF">2004-06-02T06:57:17Z</dcterms:modified>
  <cp:revision>17</cp:revision>
  <dc:subject/>
  <dc:title>Parallelizing "John the Ripper"Ripper"</dc:title>
</cp:coreProperties>
</file>