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54345"/>
        <c:axId val="52289904"/>
      </c:barChart>
      <c:catAx>
        <c:axId val="35754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9904"/>
        <c:crosses val="autoZero"/>
        <c:auto val="1"/>
        <c:lblAlgn val="ctr"/>
        <c:lblOffset val="100"/>
        <c:noMultiLvlLbl val="0"/>
      </c:catAx>
      <c:valAx>
        <c:axId val="52289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54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BE5-272A-4794-B710-723913CC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C04-081D-4809-9C87-C94EE1FC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5F5-5E6D-43B1-986D-0E17FBF4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F43-261C-4C14-82BD-D7A28B75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9A8-F8C9-46F2-A238-282F7A3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76F-FF35-4596-BC07-EDDE32A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F0B-F7CF-4516-B682-02F01D2A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EA7-D96A-40E0-A31A-84AE3562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579-6196-464C-89D6-40456079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83D-9434-4686-A39E-56358E0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FF2-E293-4711-B426-BE88499C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523-429B-4B15-907E-ACB2D7BD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3DCD5-6CB1-4238-A3B4-FD3E6E4ED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