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404A5-ED69-42E8-80A7-1313DAB61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8BBA5-47D2-4185-9F88-09D5189B4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9D9AC-254B-490A-9CFC-B8D2D29AC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2C63F-3287-4599-B6F8-64F73DB90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A0676-DEED-44E5-BA77-9F99BDEE0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C3E9C-028C-4911-97FC-1A33900E6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5EC83-0730-4E01-A05A-64C5A836D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EDAF3-1A6E-4E39-9264-730FECE0A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96DED-5759-4ADF-8B40-DBF7027C7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F83A6-999E-4F48-A012-C531D1355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E04C8-C1F8-4A8F-A299-03851E342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C5F3F-C6C2-49D9-9C49-58B12FA8F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22BA0-5E99-4889-B2AD-5E0E828D1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D99DC-601A-48E9-89F5-668FCA762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0D3B2-F4A6-42D2-8637-452A9A83A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6C78B-01CD-4F16-8BFD-60D5623FE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CF4A2-8CAC-44F0-BB55-24A9924C3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FC7E5-7218-4AF3-A96A-94889FFC4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4CE93-DE09-456A-93A8-F2380EA1E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5C9DA-35A3-4495-98B0-8BA371117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7B43A-3B91-4B06-B31E-20813CE66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8E541-584F-4E78-8130-2A1C99011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B524B-0E0C-46CF-B8F0-A34550BCC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52DDA-E15D-4A0F-8145-40E88AC35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B7020-5EB1-4100-969C-BF8B1FF566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448C2-32BB-4209-8094-BC62ECA7E1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59280" y="1699920"/>
            <a:ext cx="5324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300" spc="-1" strike="noStrike">
                <a:solidFill>
                  <a:srgbClr val="ffffff"/>
                </a:solidFill>
                <a:latin typeface="Arial"/>
              </a:rPr>
              <a:t>LCCS</a:t>
            </a: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400" spc="-1" strike="noStrike">
                <a:solidFill>
                  <a:srgbClr val="000000"/>
                </a:solidFill>
                <a:latin typeface="Arial"/>
              </a:rPr>
              <a:t>A Pure Tcl/Tk Train Traffic Supervision Syste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Reading synoptic and configuration</a:t>
            </a:r>
            <a:br>
              <a:rPr sz="4000"/>
            </a:b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importance of safe interpreters</a:t>
            </a: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3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ithout safe interpr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pplications which source configuration files can not be trusted to run in a realistic sce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e would have to write our own input proces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ith safe interpr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Implementing a specialised parser is straightforwa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987640" y="2276640"/>
            <a:ext cx="5905440" cy="42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proc Config::Colors {file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proc set_color { object color 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global COL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object [string tolower $object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COLORS($object) $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parser [interp create -saf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$parser hide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$parser alias set Config::set_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afeSource $parser $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terp delete $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name set_color {}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 Load The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Colors [file join $ETC Color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Scales [file join $ETC Scale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LanguageStrings [file join $ETC Languag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 Load Synop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Synoptic $canvas [file join $ETC global Synoptic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Synoptic description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546440" cy="447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Railway synop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include global/Seg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include global/Sc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Rail circu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      id        segments        variable   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-AM   {seg1}                 A001   "C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3-AM   {seg3}                 A003   "C3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5-AM   {seg5a seg5b}     A005   "C5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7-AM   {seg7a seg7b}     A007   "C7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9-AM   {seg9}                  A009   "C9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1-AM {seg11a seg11b} A012  "C1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3-AM {seg13}                A013  "C12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Trafic l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  id          coordinates    anchor    variable  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2 M1-AM {3500 8700}  {top left}     A014     "M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2 M3-AM {9000 8700}  {top right}   A015     "M3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b SB-AM {11400 8700} {top left}    B016     "SB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4 S5-AM {11000 8700} {top left}     A016     "S5"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67280" y="1484280"/>
            <a:ext cx="4535280" cy="338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Via ascende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 {{2000 8500} {35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3 {{3562 8500} {5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5a {{5062 8500} {7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5b {{7000 8500} {6500 8500} {604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7a {{7062 8500} {9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7b {{7062 8500} {7500 8500} {796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9 {{9062 8500} {11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1a {{11062 8500} {13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1b {{11062 8500} {11500 8500} {1196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3 {{13062 8500} {145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01 {{14562 8500} {16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767120" y="496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64200" y="5032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867280" y="4076640"/>
            <a:ext cx="3097440" cy="160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cales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Xscale 0.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Yscale -0.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nfiguration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0920" y="1484280"/>
            <a:ext cx="6048360" cy="50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Valid color names:BGROUND FGROUND CDVFREE CDVOCU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CAISCOLOR TEXTCOLOR WARNCOLOR ERROCOLOR CANLCOL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OKCOLOR INATCOLOR BLUNAR VIOLET ROUGE V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ynoptic col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FREE "#fffff916dc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OCUP "#f80f13f84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GROUND "#000000000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FGROUND "#dceddceddc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ISCOLOR "#a6a7a6a7a6a7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TEXTCOLOR "#ffffffffffff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WARNCOLOR "#ffc0ffff845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ERROCOLOR "#f80f14183fd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NLCOLOR "#f80f14183fd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KCOLOR   "#4854cc07432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NATCOLOR "#ededededed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Trafic light col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WLUNAR "#fffffa5cec49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VIOLET "#950b0000d3b5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RED    "#ffff0000424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GREEN  "#0000efde0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71640" y="1989000"/>
            <a:ext cx="410544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Language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LANGUAGE portugu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356000" y="1700280"/>
            <a:ext cx="4537080" cy="496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trings.portuguese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AM2 "ALAMEDA 2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L  "OLAIA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V  "BELA VIST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H  "CHELA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R  "CABO RUIV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S  "OLIVAIS SU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R  "ORIENTE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K      "Confirmar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NCEL  "Cancelar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EXIT    "Sair"</a:t>
            </a: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     "CDV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C    "Comando centra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L    "Comando loca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T      "Itinerário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A      "Itinerários automático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P      "Itinerários permanente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S      "Bloqueio de saíd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ERR "Erro de comunicação com o MicroLok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Reflection, code gen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synoptic is generated together with the code which will implement its functio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For the small synoptic presented here &gt;50% of automaticaly generated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For large synoptics can go up to ~99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116000" y="2276640"/>
            <a:ext cx="2087640" cy="30970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de generation</a:t>
            </a:r>
            <a:br>
              <a:rPr sz="4400"/>
            </a:br>
            <a:r>
              <a:rPr b="0" lang="pt-PT" sz="3600" spc="-1" strike="noStrike">
                <a:solidFill>
                  <a:srgbClr val="000000"/>
                </a:solidFill>
                <a:latin typeface="Arial"/>
              </a:rPr>
              <a:t>How hard is to write cod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773440" y="2781360"/>
            <a:ext cx="431640" cy="2592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code generating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76720" y="2276640"/>
            <a:ext cx="4897440" cy="433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76720" y="2781360"/>
            <a:ext cx="489744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dinamicaly generated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692360" y="5734080"/>
            <a:ext cx="5904000" cy="309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0" name=""/>
          <p:cNvSpPr/>
          <p:nvPr/>
        </p:nvSpPr>
        <p:spPr>
          <a:xfrm>
            <a:off x="3783240" y="616572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Hardness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550160" y="609300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Hard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77080" y="609300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sof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ol Tcl/Tk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cl fine control of its slave interpr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Code and data share the same re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k supports complex GUIs and megawidgets as well as the </a:t>
            </a: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simplest, and ugliest conceivable GU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11280" y="24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About LC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rain Traffic Supervision: what they are and how they look li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LCCS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ading synoptic description and 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flection, code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Tcl/Tk features I like 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About LC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s a local train traffic supervision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LCCS stands for </a:t>
            </a: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Local Control Computer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as developed by J.Lima and J.Rocha to the Lisbon Underground Train Comp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Demonstrate the feasibility of the entire Train Trafic supervision and control software using Tcl/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Replace the obsolete system just being install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idea was supported by the engineering team and by the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However, it was rejected by the mana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For what is used f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upervise the railway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nteract at the operational level: granting or defering a train depar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define the itineraires 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(source, destination and pat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Manualy conducting manouvers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Perform abnormal condition recovering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driver crossed the boundary of a forbiden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 train is malfunc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How they look lik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LCCs are based on Workstations or PCs. However, they work much like embedd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e don’t want operators playing solitai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X11 session will launch a single full screen application (no window manag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No further control is granted to the op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system must be capable of recovering from software errors – should have no history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One word about saf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n railway systems safety and functionality are handled separate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operational/supervision software handles functi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PLC hardware handles the all safety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6594480" cy="4883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11280" y="620640"/>
            <a:ext cx="7921440" cy="58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/Tk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dicated canvas for the synop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ons for communication with the P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thing coded in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ynoptic; the communication mod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figuration can be TCL as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 the communication protocols are forms of TC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1700280"/>
            <a:ext cx="7848360" cy="1944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900000" y="1773000"/>
            <a:ext cx="6696360" cy="1871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The Tcl O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692360" y="2060640"/>
            <a:ext cx="5759280" cy="3833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95280" y="1484280"/>
            <a:ext cx="1440000" cy="93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Tcl confi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4941720"/>
            <a:ext cx="2016000" cy="1440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grams cod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n bare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372360" y="4581360"/>
            <a:ext cx="2520720" cy="165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messag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xchang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between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re in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308720" y="2637000"/>
            <a:ext cx="165744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O is al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 form of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050920" y="5013000"/>
            <a:ext cx="649440" cy="144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050920" y="3357720"/>
            <a:ext cx="505080" cy="1800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050920" y="3789000"/>
            <a:ext cx="2233800" cy="1368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3640" y="1989000"/>
            <a:ext cx="1152720" cy="287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3059280" y="4149720"/>
            <a:ext cx="3528720" cy="1008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5508720" y="4437000"/>
            <a:ext cx="1079280" cy="720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6732360" y="3357720"/>
            <a:ext cx="718920" cy="1425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5T20:43:46Z</dcterms:created>
  <dc:creator>Nome de utilizador</dc:creator>
  <dc:description/>
  <dc:language>en-US</dc:language>
  <cp:lastModifiedBy>Nome de utilizador</cp:lastModifiedBy>
  <dcterms:modified xsi:type="dcterms:W3CDTF">2005-10-27T14:40:06Z</dcterms:modified>
  <cp:revision>12</cp:revision>
  <dc:subject/>
  <dc:title>Diapositivo 1</dc:title>
</cp:coreProperties>
</file>