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9.jpeg" ContentType="image/jpeg"/>
  <Override PartName="/ppt/media/image18.jpeg" ContentType="image/jpeg"/>
  <Override PartName="/ppt/media/image7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48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23256-7875-4966-8BD9-DE128E59C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399204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A7EEA-4DBB-4098-AF2E-B9DBF8B89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46E84-B47D-442E-900F-73156950A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FF5DD-EA0C-4BD8-9343-A84D514EC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E3CCF-E659-47D4-B76C-5A3A1DCDD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57436-C8D3-4DFA-8FD8-AD3BAE2A6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C7601-A758-4F59-8542-F2330FEEE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ED248-8CC3-4FDA-BD5D-F31164A58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9144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F16A1-F7BB-4C47-B786-B59BD168F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BA07A-1F39-4FB4-ABDD-B61CD8C66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D965F-7CB7-424F-853D-E737B8483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7CB55-A93D-4697-A8EB-253081371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457200"/>
          </a:xfrm>
          <a:prstGeom prst="rect">
            <a:avLst/>
          </a:prstGeom>
          <a:solidFill>
            <a:srgbClr val="339933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24A4A-42AF-48C4-8650-3B64C468CD93}" type="datetime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400440"/>
            <a:ext cx="39621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CF82A-8305-422C-A4F0-57B6B2193DB3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533520" y="6324480"/>
            <a:ext cx="8076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47720" y="290520"/>
            <a:ext cx="432756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poSoft - Paul Obermeier‘s Portable Softwa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544680"/>
            <a:ext cx="6973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6320" rIns="76320" tIns="-76320" bIns="-76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oLogo200_text" descr=""/>
          <p:cNvPicPr/>
          <p:nvPr/>
        </p:nvPicPr>
        <p:blipFill>
          <a:blip r:embed="rId2"/>
          <a:stretch/>
        </p:blipFill>
        <p:spPr>
          <a:xfrm>
            <a:off x="7659720" y="163440"/>
            <a:ext cx="798480" cy="674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2200" y="898200"/>
            <a:ext cx="77742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Img Inside &amp; O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logoLarge" descr=""/>
          <p:cNvPicPr/>
          <p:nvPr/>
        </p:nvPicPr>
        <p:blipFill>
          <a:blip r:embed="rId1"/>
          <a:stretch/>
        </p:blipFill>
        <p:spPr>
          <a:xfrm>
            <a:off x="685800" y="1676520"/>
            <a:ext cx="1555920" cy="2286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743200" y="2041560"/>
            <a:ext cx="571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Paul Obermei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img" descr=""/>
          <p:cNvPicPr/>
          <p:nvPr/>
        </p:nvPicPr>
        <p:blipFill>
          <a:blip r:embed="rId2"/>
          <a:stretch/>
        </p:blipFill>
        <p:spPr>
          <a:xfrm>
            <a:off x="838080" y="426708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743200" y="4495680"/>
            <a:ext cx="571356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Third European Tcl/Tk User Meet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Munich, June 20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651040" y="2652840"/>
            <a:ext cx="580572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obermeier@poSoft.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paul.obermeier@lfk.eads.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26771-5D6A-4FE0-8EDD-0E50F045875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State of Img: Curr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82560" y="1652760"/>
            <a:ext cx="7772400" cy="41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The Img extension was developed and maintained in major parts by Jan Nijtma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Latest version of Img (1.2.4) was uploaded to SourceForge by A. Kupries in May 2002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Project page: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http://sourceforge.net/projects/tkim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Project maintainers: Jeff Hobbs, Andreas Kupries, Jan Nijtma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Additional developers: Paul Obermei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Supported image forma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BMP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Windows bit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GIF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Graphics interchange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JPEG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JPE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PNG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Portable network graphics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POSTSCRIPT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Postscript (needs ghostscrip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TIFF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Tagged image file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WINDOW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Put the content of a window into a pho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XBM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X-Windows bit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XPM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X-Windows pix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State of Im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21D68-F4C7-45E7-A86D-5AB46FCC32F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682560" y="1523880"/>
            <a:ext cx="7772400" cy="46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Most of the code for the following planned actions is already implemented in an alpha version available at www.poSoft.de. It will be added to SourceForge in two step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Step1 (June 2002): Enhancements and bug fixes of existing forma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Add support routines for reading image data in small pieces (RLE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Add reading of run-length encoded Windows bitmap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Speed improvements and bugfixes for XPM forma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Add PPM format to Img to enable -data op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Various bug fix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Step2 (July 2002): Addition of new image forma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DTED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Digital Terrain Elevation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PCX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Paintbrush‘s PCX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RAW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Raw image data (matrix of float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SGI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Silicon Graphics native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SUN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Sun Raster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TGA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Truevision‘s Targa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State of Img: Plann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162920" y="5105520"/>
            <a:ext cx="129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15200" y="2438280"/>
            <a:ext cx="1219320" cy="37674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Img 1.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State of Im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10E54-9847-44DA-82E7-B8CF9100EFA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State of Img: Fu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82560" y="1652760"/>
            <a:ext cx="7772400" cy="38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The following actions are taken from my personal wish list. Implementation will need the help of the community. Please feel free to contribute in any form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Near future action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Remove usage of Tk-internal structures to enable stub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Update versions of external libraries: libpng, libjpeg, libtiff, lib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Improve existing format handlers for full complianc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Additional image formats: Windows icons, PICT, WMF, Photoshop, ??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Issues influencing Img and T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Better transparency support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Improved image manipulation: Scaling, rotation, filter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(see extension poImg at www.poSoft.d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oImg2" descr=""/>
          <p:cNvPicPr/>
          <p:nvPr/>
        </p:nvPicPr>
        <p:blipFill>
          <a:blip r:embed="rId1"/>
          <a:stretch/>
        </p:blipFill>
        <p:spPr>
          <a:xfrm>
            <a:off x="6251400" y="4435560"/>
            <a:ext cx="2359080" cy="1716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State of Im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1AA77-6491-40FF-BEAC-7237A97E7FE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Img utility: poImgty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2560" y="1523880"/>
            <a:ext cx="777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Tk package for selection of image formats and corresponding optio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oImgtype2" descr=""/>
          <p:cNvPicPr/>
          <p:nvPr/>
        </p:nvPicPr>
        <p:blipFill>
          <a:blip r:embed="rId1"/>
          <a:stretch/>
        </p:blipFill>
        <p:spPr>
          <a:xfrm>
            <a:off x="6653160" y="2863800"/>
            <a:ext cx="1957320" cy="3308400"/>
          </a:xfrm>
          <a:prstGeom prst="rect">
            <a:avLst/>
          </a:prstGeom>
          <a:ln w="0">
            <a:noFill/>
          </a:ln>
        </p:spPr>
      </p:pic>
      <p:pic>
        <p:nvPicPr>
          <p:cNvPr id="107" name="poImgtype1" descr=""/>
          <p:cNvPicPr/>
          <p:nvPr/>
        </p:nvPicPr>
        <p:blipFill>
          <a:blip r:embed="rId2"/>
          <a:stretch/>
        </p:blipFill>
        <p:spPr>
          <a:xfrm>
            <a:off x="4495680" y="3592440"/>
            <a:ext cx="1962360" cy="25797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700920" y="1969920"/>
            <a:ext cx="5027040" cy="18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Available function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OpenWin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    Open selection windo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GetFmtList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 Get list of image forma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GetExtList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 Get list of file extens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GetOptByExt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Get option string by file extens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GetOptByFmt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Get option string by format identifi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LoadFromFile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Load settings from fi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SaveToFile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 Save settings to fi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Utilities and tes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4E155-ABA8-4215-8812-43A678870A3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Img utility: Test progra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82560" y="2682720"/>
            <a:ext cx="77724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Test 1: Using full im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Test 2: Using -from op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Test 3: Using -to op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Test 4: Using all sizes fro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1x1 till 4x4 pix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oImgtest1" descr=""/>
          <p:cNvPicPr/>
          <p:nvPr/>
        </p:nvPicPr>
        <p:blipFill>
          <a:blip r:embed="rId1"/>
          <a:stretch/>
        </p:blipFill>
        <p:spPr>
          <a:xfrm>
            <a:off x="1209600" y="3857760"/>
            <a:ext cx="2981520" cy="2390760"/>
          </a:xfrm>
          <a:prstGeom prst="rect">
            <a:avLst/>
          </a:prstGeom>
          <a:ln w="0">
            <a:noFill/>
          </a:ln>
        </p:spPr>
      </p:pic>
      <p:pic>
        <p:nvPicPr>
          <p:cNvPr id="112" name="poImgtest2" descr=""/>
          <p:cNvPicPr/>
          <p:nvPr/>
        </p:nvPicPr>
        <p:blipFill>
          <a:blip r:embed="rId2"/>
          <a:stretch/>
        </p:blipFill>
        <p:spPr>
          <a:xfrm>
            <a:off x="5124600" y="3220920"/>
            <a:ext cx="3562200" cy="30276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590400" y="1509840"/>
            <a:ext cx="78645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These tests try to store the content of a canvas window in image files using all file formats and all methods (file, binary and uuencoded string) available in the Img packag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After writing we try to read the image back into a photo by using the auto-detect mechanism of Img. If that fails, we use the "-format" op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Utilities and tes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249E0-AD35-491B-8A2F-103A9DCCAD3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Summary: List of supported forma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46280" y="161460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831600" y="1809720"/>
            <a:ext cx="5727960" cy="391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BMP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Windows bitmap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DTED: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Digital Terrain Elevation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GIF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Graphics interchange format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JPEG: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JPE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PCX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Paintbrush‘s PCX format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PNG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Portable network graphics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POSTSCRIPT: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Postscript (Read-Onl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RAW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Raw image data (matrix of float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SGI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Silicon Graphics native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SUN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Sun Raster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TIFF: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Tagged image file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TGA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Truevision‘s Targa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WINDOW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Put the content of a window into a pho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XBM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X-Windows bit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XPM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X-Windows pix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List of supported forma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A3655-7936-416C-A797-3700DDB7E0D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Happy Tcl‘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logoLarge" descr=""/>
          <p:cNvPicPr/>
          <p:nvPr/>
        </p:nvPicPr>
        <p:blipFill>
          <a:blip r:embed="rId1"/>
          <a:stretch/>
        </p:blipFill>
        <p:spPr>
          <a:xfrm>
            <a:off x="682560" y="1752480"/>
            <a:ext cx="2230560" cy="327672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3270600" y="2401920"/>
            <a:ext cx="5212800" cy="20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E-Mail at home: obermeier@poSoft.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E-Mail at work:  paul.obermeier@lfk.eads.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My homepage:    http://www.poSoft.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Jan‘s homepage:  http://purl.oclc.org/net/nijtman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Img project page: http://sourceforge.net/projects/tkim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Goodby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00AC8-D7BA-4F4C-8F84-2158B04B956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2200" y="898200"/>
            <a:ext cx="77742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Img Inside &amp; Out: Cont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8920" y="3124080"/>
            <a:ext cx="302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Img from the outsi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2200" y="4648320"/>
            <a:ext cx="285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Img from the insi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35200" y="3646440"/>
            <a:ext cx="670860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- Example applications from EADS/LFK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- Example applications from poSof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5200" y="5145120"/>
            <a:ext cx="686088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- Current, planned and future state of Im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- Utilities and test program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- Summary: List of supported format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295280" y="1584360"/>
            <a:ext cx="6596280" cy="11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Img is a Tcl extension to support various image file formats for use with the Tk photo image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Besides reading/writing from/to files, it also supports image data in Tcl variables (both in binary and uuencoded form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img" descr=""/>
          <p:cNvPicPr/>
          <p:nvPr/>
        </p:nvPicPr>
        <p:blipFill>
          <a:blip r:embed="rId1"/>
          <a:stretch/>
        </p:blipFill>
        <p:spPr>
          <a:xfrm>
            <a:off x="6324480" y="312408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5867280" y="396252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img" descr=""/>
          <p:cNvPicPr/>
          <p:nvPr/>
        </p:nvPicPr>
        <p:blipFill>
          <a:blip r:embed="rId2"/>
          <a:stretch/>
        </p:blipFill>
        <p:spPr>
          <a:xfrm>
            <a:off x="6324480" y="472428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7086600" y="556272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Conten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0C432-770A-4967-AEC0-15FDA70628D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Tk and Img based applications at EADS/LF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85800" y="1600200"/>
            <a:ext cx="6248520" cy="15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The system simulation department of EADS/LFK uses Tcl/Tk and Img for pre- and postprocessing of complex simulatio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MDS (Mathematical Digital Simulation): Simulate all relevant components of a missile and it‘s environment in softwar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Main design issues: Flexibility and portability (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long project durations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EADS%20logo" descr=""/>
          <p:cNvPicPr/>
          <p:nvPr/>
        </p:nvPicPr>
        <p:blipFill>
          <a:blip r:embed="rId1"/>
          <a:stretch/>
        </p:blipFill>
        <p:spPr>
          <a:xfrm>
            <a:off x="7086600" y="1914480"/>
            <a:ext cx="1276200" cy="9050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762120" y="3809880"/>
            <a:ext cx="1679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19280" y="3598920"/>
            <a:ext cx="2057400" cy="685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Configuration 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Pre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508200" y="3598920"/>
            <a:ext cx="20574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Simu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(Batch processin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261120" y="3598920"/>
            <a:ext cx="2057400" cy="685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Visualization &am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Post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65" idx="3"/>
            <a:endCxn id="66" idx="1"/>
          </p:cNvCxnSpPr>
          <p:nvPr/>
        </p:nvCxnSpPr>
        <p:spPr>
          <a:xfrm>
            <a:off x="2795400" y="3941280"/>
            <a:ext cx="7128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9" name=""/>
          <p:cNvCxnSpPr>
            <a:stCxn id="66" idx="3"/>
            <a:endCxn id="67" idx="1"/>
          </p:cNvCxnSpPr>
          <p:nvPr/>
        </p:nvCxnSpPr>
        <p:spPr>
          <a:xfrm>
            <a:off x="5565240" y="3941280"/>
            <a:ext cx="6771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0" name=""/>
          <p:cNvSpPr/>
          <p:nvPr/>
        </p:nvSpPr>
        <p:spPr>
          <a:xfrm>
            <a:off x="719280" y="4497480"/>
            <a:ext cx="2057400" cy="1630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Tk based GUI‘s for safe editing of configuration fil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Tk based GUI‘s for configuration and execution of physical models (Example 1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508200" y="4497480"/>
            <a:ext cx="205740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Pure batch programs written in C, C++ or Ada reading input files and generating output fil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61120" y="4497480"/>
            <a:ext cx="2057400" cy="15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Tk/Img based GUI‘s for visualization of rendered image sequences (Example 2) and postprocessing of generated simulation data (Example 3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LFK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F34E3-0D44-4BAF-826B-41D228A2343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Example 1: GUI‘s for physical mode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85800" y="1468440"/>
            <a:ext cx="792468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Left: Graphical frontend for MODTRAN, an atmospheric radiative transfer mode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Right: Graphical frontend for Thermos, a LFK developed thermal mode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ThermosMain" descr=""/>
          <p:cNvPicPr/>
          <p:nvPr/>
        </p:nvPicPr>
        <p:blipFill>
          <a:blip r:embed="rId1"/>
          <a:stretch/>
        </p:blipFill>
        <p:spPr>
          <a:xfrm>
            <a:off x="3886200" y="3084480"/>
            <a:ext cx="4724280" cy="3164040"/>
          </a:xfrm>
          <a:prstGeom prst="rect">
            <a:avLst/>
          </a:prstGeom>
          <a:ln w="0">
            <a:noFill/>
          </a:ln>
        </p:spPr>
      </p:pic>
      <p:pic>
        <p:nvPicPr>
          <p:cNvPr id="76" name="modgui" descr=""/>
          <p:cNvPicPr/>
          <p:nvPr/>
        </p:nvPicPr>
        <p:blipFill>
          <a:blip r:embed="rId2"/>
          <a:stretch/>
        </p:blipFill>
        <p:spPr>
          <a:xfrm>
            <a:off x="685800" y="2260440"/>
            <a:ext cx="5486400" cy="3378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LFK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C2370-E2A1-4172-89B5-F9780C69BF1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Example 2: OsmV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52760" y="1436760"/>
            <a:ext cx="723852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Replay of multiple infrared image sequences overlayed with vector graphic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Images are read from files in Sun Raster forma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osmvis" descr=""/>
          <p:cNvPicPr/>
          <p:nvPr/>
        </p:nvPicPr>
        <p:blipFill>
          <a:blip r:embed="rId1"/>
          <a:stretch/>
        </p:blipFill>
        <p:spPr>
          <a:xfrm>
            <a:off x="1447920" y="2209680"/>
            <a:ext cx="5486400" cy="3986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LFK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87613-07FD-4AB9-944E-D42DFA90C13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Example 3: MdsView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78600" y="1360440"/>
            <a:ext cx="698688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2D and 3D visualization of simulation results with Tk/Img and Perform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Grid of height values (DTED format) interpreted as a photo imag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mdsview" descr=""/>
          <p:cNvPicPr/>
          <p:nvPr/>
        </p:nvPicPr>
        <p:blipFill>
          <a:blip r:embed="rId1"/>
          <a:stretch/>
        </p:blipFill>
        <p:spPr>
          <a:xfrm>
            <a:off x="762120" y="2065320"/>
            <a:ext cx="4876560" cy="4183200"/>
          </a:xfrm>
          <a:prstGeom prst="rect">
            <a:avLst/>
          </a:prstGeom>
          <a:ln w="0">
            <a:noFill/>
          </a:ln>
        </p:spPr>
      </p:pic>
      <p:pic>
        <p:nvPicPr>
          <p:cNvPr id="83" name="mdshelp" descr=""/>
          <p:cNvPicPr/>
          <p:nvPr/>
        </p:nvPicPr>
        <p:blipFill>
          <a:blip r:embed="rId2"/>
          <a:stretch/>
        </p:blipFill>
        <p:spPr>
          <a:xfrm>
            <a:off x="5867280" y="3200400"/>
            <a:ext cx="2362320" cy="1398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LFK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4A61A-F472-47D3-826A-890B7518328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Tk and Img based applications from poSof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6280" y="1828800"/>
            <a:ext cx="77086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www.poSoft.de is my private homepage: Paul Obermeier‘s Portable Softwar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Home of </a:t>
            </a: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Tools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, a set of portable Tcl/Tk application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Diff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:         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Portable tool to recursively compare the contents of two director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Bitmap: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  Portable tool to view and manipulate X-Window bitmaps.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Imgdiff: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Portable tool to compare two images (Example 4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Imgview: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Portable tool to view and manipulate images (Example 5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poSoft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E6C02-4CA0-48CA-8523-58A80C3CBAD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Example 4: poImgdif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82560" y="1562040"/>
            <a:ext cx="541332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rtable image comparison tool.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Images are placed side by side for visual comparis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Generation of difference images and histogram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oImgdiff1" descr=""/>
          <p:cNvPicPr/>
          <p:nvPr/>
        </p:nvPicPr>
        <p:blipFill>
          <a:blip r:embed="rId1"/>
          <a:stretch/>
        </p:blipFill>
        <p:spPr>
          <a:xfrm>
            <a:off x="682560" y="2743200"/>
            <a:ext cx="4956120" cy="3435480"/>
          </a:xfrm>
          <a:prstGeom prst="rect">
            <a:avLst/>
          </a:prstGeom>
          <a:ln w="0">
            <a:noFill/>
          </a:ln>
        </p:spPr>
      </p:pic>
      <p:pic>
        <p:nvPicPr>
          <p:cNvPr id="89" name="poImgdiff2" descr=""/>
          <p:cNvPicPr/>
          <p:nvPr/>
        </p:nvPicPr>
        <p:blipFill>
          <a:blip r:embed="rId2"/>
          <a:stretch/>
        </p:blipFill>
        <p:spPr>
          <a:xfrm>
            <a:off x="6324480" y="3962520"/>
            <a:ext cx="2052720" cy="2238120"/>
          </a:xfrm>
          <a:prstGeom prst="rect">
            <a:avLst/>
          </a:prstGeom>
          <a:ln w="0">
            <a:noFill/>
          </a:ln>
        </p:spPr>
      </p:pic>
      <p:pic>
        <p:nvPicPr>
          <p:cNvPr id="90" name="poImgdiff3" descr=""/>
          <p:cNvPicPr/>
          <p:nvPr/>
        </p:nvPicPr>
        <p:blipFill>
          <a:blip r:embed="rId3"/>
          <a:stretch/>
        </p:blipFill>
        <p:spPr>
          <a:xfrm>
            <a:off x="6351480" y="1447920"/>
            <a:ext cx="2030400" cy="2492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poSoft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FDD4B-2046-43F3-89D0-AE723294A43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Example 5: poImg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82560" y="1639800"/>
            <a:ext cx="3508560" cy="9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rtable image view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Includes image browser and batch format convers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oImgview1" descr=""/>
          <p:cNvPicPr/>
          <p:nvPr/>
        </p:nvPicPr>
        <p:blipFill>
          <a:blip r:embed="rId1"/>
          <a:stretch/>
        </p:blipFill>
        <p:spPr>
          <a:xfrm>
            <a:off x="6051600" y="1576440"/>
            <a:ext cx="2403360" cy="4473360"/>
          </a:xfrm>
          <a:prstGeom prst="rect">
            <a:avLst/>
          </a:prstGeom>
          <a:ln w="0">
            <a:noFill/>
          </a:ln>
        </p:spPr>
      </p:pic>
      <p:pic>
        <p:nvPicPr>
          <p:cNvPr id="94" name="poImgview4" descr=""/>
          <p:cNvPicPr/>
          <p:nvPr/>
        </p:nvPicPr>
        <p:blipFill>
          <a:blip r:embed="rId2"/>
          <a:stretch/>
        </p:blipFill>
        <p:spPr>
          <a:xfrm>
            <a:off x="682560" y="2973240"/>
            <a:ext cx="5108760" cy="3046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poSoft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46DDB-34F6-460D-8178-0A6DDBC4587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0T13:38:28Z</dcterms:created>
  <dc:creator>LFK - Installation</dc:creator>
  <dc:description/>
  <dc:language>en-US</dc:language>
  <cp:lastModifiedBy>Who cares</cp:lastModifiedBy>
  <cp:lastPrinted>2002-06-09T11:48:02Z</cp:lastPrinted>
  <dcterms:modified xsi:type="dcterms:W3CDTF">2002-06-09T20:27:43Z</dcterms:modified>
  <cp:revision>147</cp:revision>
  <dc:subject/>
  <dc:title>Methoden und Tools der IR-Bildgenerierung - Gliederung</dc:title>
</cp:coreProperties>
</file>