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99BB-B0BD-46D8-82C8-3F25C8820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6A31-EADD-4251-82A1-B0B5F50C6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2ECB-7DD6-4EA4-B055-05C3BD1B1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560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3768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560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3768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6309-6556-4500-9D8C-F5E364ED8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8719-D63B-4D78-A1E9-F65E8F172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9086-E90E-41ED-8279-7C800AF35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AA86-BB46-47B3-B420-2706275CE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4276-854D-4D3C-BDA2-CFEDBCEA0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52480" y="38160"/>
            <a:ext cx="6400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6084-99EA-4DAA-A7CB-49E9B0860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3995-5F81-4E62-9E6B-586298E9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DD65-F69A-4E15-A46B-4F072F87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22C5-C800-492D-A031-4F4A6F7C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, slide </a:t>
            </a:r>
            <a:fld id="{FC2559C7-7780-410A-8A00-162A5C53E11A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83B13-EC11-4A1B-9BFF-19F94D0A32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age" descr=""/>
          <p:cNvPicPr/>
          <p:nvPr/>
        </p:nvPicPr>
        <p:blipFill>
          <a:blip r:embed="rId2"/>
          <a:stretch/>
        </p:blipFill>
        <p:spPr>
          <a:xfrm>
            <a:off x="152280" y="195120"/>
            <a:ext cx="8763120" cy="65217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14400" y="6172200"/>
            <a:ext cx="2666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hyperlink" Target="http://tclpro.sf.net/" TargetMode="External"/><Relationship Id="rId7" Type="http://schemas.openxmlformats.org/officeDocument/2006/relationships/hyperlink" Target="http://tclpro.sf.net/" TargetMode="External"/><Relationship Id="rId8" Type="http://schemas.openxmlformats.org/officeDocument/2006/relationships/hyperlink" Target="http://tclpro.sf.net/" TargetMode="External"/><Relationship Id="rId9" Type="http://schemas.openxmlformats.org/officeDocument/2006/relationships/hyperlink" Target="http://tclpro.sf.net/" TargetMode="External"/><Relationship Id="rId10" Type="http://schemas.openxmlformats.org/officeDocument/2006/relationships/hyperlink" Target="http://tclpro.sf.net/" TargetMode="External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url.org/tcl/wiki" TargetMode="External"/><Relationship Id="rId2" Type="http://schemas.openxmlformats.org/officeDocument/2006/relationships/hyperlink" Target="http://www.purl.org/tcl/wiki" TargetMode="External"/><Relationship Id="rId3" Type="http://schemas.openxmlformats.org/officeDocument/2006/relationships/hyperlink" Target="http://www.purl.org/tcl/wiki" TargetMode="External"/><Relationship Id="rId4" Type="http://schemas.openxmlformats.org/officeDocument/2006/relationships/hyperlink" Target="http://www.purl.org/tcl/wiki" TargetMode="External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s.man.ac.uk/fellowsd-bin/TIP/" TargetMode="External"/><Relationship Id="rId2" Type="http://schemas.openxmlformats.org/officeDocument/2006/relationships/hyperlink" Target="http://www.cs.man.ac.uk/fellowsd-bin/TIP/" TargetMode="External"/><Relationship Id="rId3" Type="http://schemas.openxmlformats.org/officeDocument/2006/relationships/hyperlink" Target="http://www.cs.man.ac.uk/fellowsd-bin/TIP/" TargetMode="External"/><Relationship Id="rId4" Type="http://schemas.openxmlformats.org/officeDocument/2006/relationships/hyperlink" Target="http://www.cs.man.ac.uk/fellowsd-bin/TIP/" TargetMode="External"/><Relationship Id="rId5" Type="http://schemas.openxmlformats.org/officeDocument/2006/relationships/hyperlink" Target="http://www.cs.man.ac.uk/fellowsd-bin/TIP/" TargetMode="External"/><Relationship Id="rId6" Type="http://schemas.openxmlformats.org/officeDocument/2006/relationships/hyperlink" Target="http://www.cs.man.ac.uk/fellowsd-bin/TIP/" TargetMode="External"/><Relationship Id="rId7" Type="http://schemas.openxmlformats.org/officeDocument/2006/relationships/hyperlink" Target="http://www.cs.man.ac.uk/fellowsd-bin/TIP/" TargetMode="External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76720" y="62485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7432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71600" y="3814920"/>
          <a:ext cx="6172200" cy="121428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1371600" y="1981080"/>
          <a:ext cx="6172200" cy="121932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Pro open sourced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tclpro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8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9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0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565600" y="439560"/>
            <a:ext cx="433440" cy="417600"/>
            <a:chOff x="5565600" y="439560"/>
            <a:chExt cx="433440" cy="417600"/>
          </a:xfrm>
        </p:grpSpPr>
        <p:sp>
          <p:nvSpPr>
            <p:cNvPr id="163" name=""/>
            <p:cNvSpPr/>
            <p:nvPr/>
          </p:nvSpPr>
          <p:spPr>
            <a:xfrm>
              <a:off x="579096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7000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566964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181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61744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1744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56560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c0128"/>
                </a:solidFill>
                <a:latin typeface="Times New Roman"/>
              </a:rPr>
              <a:t>Not</a:t>
            </a: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 the Tcl Developer Xchan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ctiveState and Tc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modo 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Downloads/Komodo/M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/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: training and consul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1"/>
              </a:rPr>
              <a:t>http://www.purl.org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3"/>
              </a:rPr>
              <a:t>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4"/>
              </a:rPr>
              <a:t>wi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 Developer Xchange has mov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purl.org/net/tcl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wnload rate steady (~30,000 / month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y patch releases since last yea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ble release now at 8.3.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for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rimental release, now at 8.4a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ill in feature-add mod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‘spinbox’ widge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ral minor core feature enhance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everal TIPs in the pipeli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set’ 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EA 2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n discuss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Roadmap Pol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rove Tcl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chive file support (.jar/.zi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source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binary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Install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nd-alone executable support in core (*wra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46256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maller, more modular cor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rag &amp; Dro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ndows Tk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nting suppor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k abstraction layer (TkGS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gawidgets (roll your own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371600"/>
            <a:ext cx="861048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has happened since Tcl’Europ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44080" y="259092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03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 flipV="1">
            <a:off x="388620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209680" y="3257640"/>
            <a:ext cx="0" cy="885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24600" y="2157480"/>
            <a:ext cx="0" cy="804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19640" y="5025960"/>
            <a:ext cx="299052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52880" y="1952640"/>
            <a:ext cx="0" cy="100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81440" y="134316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12408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1904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2971800"/>
            <a:ext cx="4267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2971800"/>
            <a:ext cx="42292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2590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8240" y="3772080"/>
            <a:ext cx="928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644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0980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2880" y="3648240"/>
            <a:ext cx="9860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19640" y="3648240"/>
            <a:ext cx="1009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3972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4019400"/>
            <a:ext cx="1924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86728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05720" y="15098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05520" y="3524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 ASPN/Tcl Launch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8580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43800" y="3895560"/>
            <a:ext cx="74304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3024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992400" y="4608360"/>
            <a:ext cx="433440" cy="417600"/>
            <a:chOff x="3992400" y="4608360"/>
            <a:chExt cx="433440" cy="417600"/>
          </a:xfrm>
        </p:grpSpPr>
        <p:sp>
          <p:nvSpPr>
            <p:cNvPr id="136" name=""/>
            <p:cNvSpPr/>
            <p:nvPr/>
          </p:nvSpPr>
          <p:spPr>
            <a:xfrm>
              <a:off x="4217760" y="47300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9680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409644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4496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04424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44240" y="47998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92400" y="47282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886440" y="2895480"/>
            <a:ext cx="76320" cy="15264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atus as of Tcl’Europe 200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n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4a1 recently releas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3.1 was the stable version (now part of Red Hat and SuSE standard distribution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riptics (now Ajuba) was focusing on B2B applic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to collectively manage development of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w… Tcl Core Tea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752480" y="2392200"/>
          <a:ext cx="4648320" cy="2556000"/>
        </p:xfrm>
        <a:graphic>
          <a:graphicData uri="http://schemas.openxmlformats.org/drawingml/2006/table">
            <a:tbl>
              <a:tblPr/>
              <a:tblGrid>
                <a:gridCol w="2324160"/>
                <a:gridCol w="2324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tarted TIP process for Tcl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cs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man.ac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uk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/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fellowsd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-bin/TIP/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Currently 34 TIPs (9 active project TIP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/Tk maintainers are a separate grou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1-06-01T10:19:00Z</dcterms:modified>
  <cp:revision>388</cp:revision>
  <dc:subject/>
  <dc:title>The (Active) State of Tcl, 2001</dc:title>
</cp:coreProperties>
</file>