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B847-898F-42D0-A530-AF9005337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4F24-55F2-4149-B07C-A9878D7E0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9BA7-391A-40CC-B5F9-328F6D728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0313-9A84-478C-813B-063421273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3209-7792-4212-BEE5-E99893B66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4DE4-88AD-42C7-AD2B-06B6216EE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8AA2-A51E-4DBA-8A81-7079E8DFB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A113-01A6-413D-9CB6-C23173513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13C0-56D8-4D2A-A02A-77323EB35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B2AB-ED0F-4933-8A21-7AE494B4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92A6-3F0F-4538-BFB0-6FD3FAFD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2DB3-5B69-4B3F-8DE0-BB7AB26F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C3183-3EC1-4595-8A74-97551052ECC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agle: Tcl Implementation in C#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5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Microsoft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embed in CLR 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table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CLR clas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Tcl/T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native librar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active debugg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script cancell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read-only variables, command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preter-wide variable trac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closu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Unicode (UCS-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Tk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rgument expansion syntax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namespace suppor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binary, fblocked, fcopy, fileevent, format, glob, history, memory, scan, or trac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registry or DD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erver socke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lave interpreters, no hidden commands, no aliases, and no Safe Tc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open command, command pipelines and serial port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exec command, Unix-style input/output redirection and command pipeline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8-10-22T06:56:22Z</dcterms:modified>
  <cp:revision>140</cp:revision>
  <dc:subject>Eagle</dc:subject>
  <dc:title>Eagle: Tcl Implementation in C#</dc:title>
</cp:coreProperties>
</file>