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78F1-2C37-42D5-BE65-FC36C1862A7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28FFA7-4BCB-4C4B-9E5E-E095559419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12E0C-9E5B-481E-AD7C-BD773DFD4BDE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D4E3D-A0D7-45C5-B66F-C7FB2CB13367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F31FC-F53B-4FC8-B5BA-F3661DFA7D34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A6142-83F0-4B2D-A079-5D21AEA8F9A8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DD7FB-7558-4628-9F2C-46A576CFD7AC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099D1-26B5-480D-AFC8-555E0C98116A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83AC4-FF2C-463B-B527-5EE99E1EAF98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10FFF-506D-48E9-8469-E50A6E2616FE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32617-03EB-4D55-AB17-D463B2CD1FD2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D839D-6397-4E64-8123-0D91D7A1F4AE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9D95F-B0C2-4FCD-90C0-ADFFC0CE0A54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9078D-8F65-4184-84F1-F7B577D023BE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BD81D-0C50-4D7E-B38B-B500749507BE}" type="datetime1">
              <a:rPr lang="en-US"/>
              <a:t>07/29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19BED-5831-41D8-865E-B27344653F98}" type="datetime1">
              <a:rPr lang="en-US"/>
              <a:t>07/29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0B145-B56E-44B9-871D-C084B74895DD}" type="datetime1">
              <a:rPr lang="en-US"/>
              <a:t>07/29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