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9A67-1C57-4AD1-B864-2CDF3A48A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1623-0786-4D08-AF18-FC27C6A38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1A52-1445-45B0-B39F-4441DEA59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4688-FE5D-4AC6-86EF-9850EA749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F8C5-48A5-457C-9D39-524DEE099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4168-B2CE-4187-9620-D79A5A182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1E91-5647-4096-8B7F-059F106FC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29DD-66CC-4B03-8ADD-B4255B994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8439-F697-4BBF-92BF-17A4C3F5E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8F2D-E935-4CDA-BB26-48680904A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955A-06B4-48D4-A3A3-522043CD9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14B4-DDCD-4271-AF42-DB30D5E1B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609E1-E0FE-4744-82BB-5355561EA1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kImg, Past – Present - Fu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 Nijtmans/Paul Oberme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Tcl 2008, june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bui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support Tcl &lt;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test su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ul Obermeij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t started:                      ’94-’97     http://hwr.nici.kun.nl/~miami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NG, JPEG, TI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_Obj interface/stu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miami" descr=""/>
          <p:cNvPicPr/>
          <p:nvPr/>
        </p:nvPicPr>
        <p:blipFill>
          <a:blip r:embed="rId1"/>
          <a:stretch/>
        </p:blipFill>
        <p:spPr>
          <a:xfrm>
            <a:off x="3657600" y="1523880"/>
            <a:ext cx="195408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: P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 code borrowed (stolen) from:             Joel Cri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reading/writing from 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ed support for PNG user 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with zli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: JPE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itial implementation, using Tomas Lane’s JPEG library (version 6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ter replaced with Tomas Lane’s ver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both libjpeg 6a and 6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rd: TIF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libtiff library (Sam Leffner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with zlib and libjp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2209680"/>
            <a:ext cx="7619760" cy="1371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brary dependency (Img 1.0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2514600"/>
            <a:ext cx="213336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1280" y="2514600"/>
            <a:ext cx="190512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146280" y="2691000"/>
            <a:ext cx="1347120" cy="48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28800" y="4572000"/>
            <a:ext cx="175248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5410080"/>
            <a:ext cx="21337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3657600"/>
            <a:ext cx="21337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86400" y="4419720"/>
            <a:ext cx="1905120" cy="76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6553080" y="3276720"/>
            <a:ext cx="1526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257800" y="5029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00200" y="3276720"/>
            <a:ext cx="4572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419360" y="3352680"/>
            <a:ext cx="759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276720" y="426708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44197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91520" y="1523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r ’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imated G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script (idea stolen from X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_Obj (8.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ic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562720" y="1447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 ’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dow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df (using ghostscrip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Tcl_Ob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support Tcl &lt; 8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te ar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t release: 1.2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15000" y="12952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’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5029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.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kImg 1.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: re-organisation of bui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support Tcl &lt; 8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 to sourcefor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: xbm, xpm, ico, pcx, sgi, sun, t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Img 1.3.1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67280" y="13716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CIS</cp:lastModifiedBy>
  <dcterms:modified xsi:type="dcterms:W3CDTF">2008-06-05T14:41:55Z</dcterms:modified>
  <cp:revision>6</cp:revision>
  <dc:subject/>
  <dc:title>PowerPoint Presentation</dc:title>
</cp:coreProperties>
</file>