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0CBB-4E6E-4026-AC6A-8EBD8712D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5178-1C76-4BBE-814C-11A3BC1B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F9F3-A112-49F3-9AFE-03029D89C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9A59-114A-4388-9248-CB4EBCB58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54FFC-CCEA-41A9-83CC-8A9C2173D4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7A9E2D-D52D-420E-99BF-9DCAC05709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6D0758-1EBE-4309-BDD1-53DA514CB5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45BCB-CF69-4655-AA1D-B72D1F4AF0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735685-C5CE-4A74-B36B-0127D4177F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8157F-9668-468E-AA9F-02BF58EC2E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4E06B-327D-4116-AC7D-99FDD90407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673A-A16F-4E97-B5AF-8A92F9B2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1AC30-FA46-4191-9639-1BDC0047F9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A5638-5A09-4E4C-9962-5A9880ED52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DFD26-2E01-439A-9FC9-24D3D5368C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030E0-A27E-4348-9C97-9137544243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B63AC-DFCD-4519-82B9-43071A8BDD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3802-B2CA-468D-BFF7-FEF18072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665A-C1B9-4931-973E-ED831E71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8DB7-1892-4C1D-882C-01EFB92F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3E06-43C8-441C-9104-D86E5063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8766-E7FC-4311-B10F-F2FE9A55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8E51-BDF6-4DEF-9D2F-D677FC28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B7F4-79C9-4236-8FE0-0EF8357B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A56E-C47E-4B35-A3B5-431436155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E21C-3F78-43B5-84DA-BDF69B0B5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iki.tcl.tk/3099.html" TargetMode="External"/><Relationship Id="rId2" Type="http://schemas.openxmlformats.org/officeDocument/2006/relationships/hyperlink" Target="http://wiki.tcl.tk/3099.html" TargetMode="External"/><Relationship Id="rId3" Type="http://schemas.openxmlformats.org/officeDocument/2006/relationships/hyperlink" Target="http://wiki.tcl.tk/3099.html" TargetMode="External"/><Relationship Id="rId4" Type="http://schemas.openxmlformats.org/officeDocument/2006/relationships/hyperlink" Target="http://wiki.tcl.tk/3099.html" TargetMode="External"/><Relationship Id="rId5" Type="http://schemas.openxmlformats.org/officeDocument/2006/relationships/hyperlink" Target="http://wiki.tcl.tk/3099.html" TargetMode="External"/><Relationship Id="rId6" Type="http://schemas.openxmlformats.org/officeDocument/2006/relationships/hyperlink" Target="http://wiki.tcl.tk/3099.html" TargetMode="External"/><Relationship Id="rId7" Type="http://schemas.openxmlformats.org/officeDocument/2006/relationships/hyperlink" Target="http://wiki.tcl.tk/3099.html" TargetMode="External"/><Relationship Id="rId8" Type="http://schemas.openxmlformats.org/officeDocument/2006/relationships/hyperlink" Target="http://www.tcl.tk/man/tcl8.4/" TargetMode="External"/><Relationship Id="rId9" Type="http://schemas.openxmlformats.org/officeDocument/2006/relationships/hyperlink" Target="http://www.tcl.tk/man/tcl8.4/" TargetMode="External"/><Relationship Id="rId10" Type="http://schemas.openxmlformats.org/officeDocument/2006/relationships/hyperlink" Target="http://www.tcl.tk/man/tcl8.4/" TargetMode="External"/><Relationship Id="rId11" Type="http://schemas.openxmlformats.org/officeDocument/2006/relationships/hyperlink" Target="http://www.tcl.tk/man/tcl8.4/" TargetMode="External"/><Relationship Id="rId12" Type="http://schemas.openxmlformats.org/officeDocument/2006/relationships/hyperlink" Target="http://www.tcl.tk/man/tcl8.4/" TargetMode="External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ki.tcl.tk/1611.html" TargetMode="External"/><Relationship Id="rId2" Type="http://schemas.openxmlformats.org/officeDocument/2006/relationships/hyperlink" Target="http://wiki.tcl.tk/vfs" TargetMode="External"/><Relationship Id="rId3" Type="http://schemas.openxmlformats.org/officeDocument/2006/relationships/hyperlink" Target="http://wiki.tcl.tk/vf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izes on 32-bit opera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rename |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enter | leave | enterstep | leav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array | read | write |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style trace command depre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labelframe" descr=""/>
          <p:cNvPicPr/>
          <p:nvPr/>
        </p:nvPicPr>
        <p:blipFill>
          <a:blip r:embed="rId1"/>
          <a:stretch/>
        </p:blipFill>
        <p:spPr>
          <a:xfrm>
            <a:off x="1143000" y="5257800"/>
            <a:ext cx="1393920" cy="1303200"/>
          </a:xfrm>
          <a:prstGeom prst="rect">
            <a:avLst/>
          </a:prstGeom>
          <a:ln w="0">
            <a:noFill/>
          </a:ln>
        </p:spPr>
      </p:pic>
      <p:pic>
        <p:nvPicPr>
          <p:cNvPr id="227" name="panedwindow" descr=""/>
          <p:cNvPicPr/>
          <p:nvPr/>
        </p:nvPicPr>
        <p:blipFill>
          <a:blip r:embed="rId2"/>
          <a:srcRect l="2608" t="37648" r="3123" b="13154"/>
          <a:stretch/>
        </p:blipFill>
        <p:spPr>
          <a:xfrm>
            <a:off x="6718320" y="3200400"/>
            <a:ext cx="2295360" cy="1709640"/>
          </a:xfrm>
          <a:prstGeom prst="rect">
            <a:avLst/>
          </a:prstGeom>
          <a:ln w="0">
            <a:noFill/>
          </a:ln>
        </p:spPr>
      </p:pic>
      <p:pic>
        <p:nvPicPr>
          <p:cNvPr id="228" name="spinbox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9493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windowing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distinguish between Xlib and native A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hange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ki Changes in Tcl/Tk 8.4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wik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/3099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cal mode wiki on the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 Change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0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1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2"/>
              </a:rPr>
              <a:t>/man/tcl8.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tails in BoF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Boo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941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ing soon to a store nea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lch 4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lynt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bookcover" descr=""/>
          <p:cNvPicPr/>
          <p:nvPr/>
        </p:nvPicPr>
        <p:blipFill>
          <a:blip r:embed="rId1"/>
          <a:stretch/>
        </p:blipFill>
        <p:spPr>
          <a:xfrm>
            <a:off x="3627360" y="990720"/>
            <a:ext cx="4830840" cy="52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Tcl and Tclkit b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ver 2 years in the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iki.tcl.tk/161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http://wiki.tcl.tk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v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fication of the C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incompatible – with a compatability 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2-09-11T16:00:26Z</dcterms:modified>
  <cp:revision>416</cp:revision>
  <dc:subject/>
  <dc:title>8.4 Tcl Overview</dc:title>
</cp:coreProperties>
</file>