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5A94-553B-4C7E-AFB6-1AADF8FA8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C3FD-1E9E-4E36-8F64-0EFA9774C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0D1B-918A-4DCB-84FF-81A18377A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E91A-C81F-4D93-A8B6-DBE8DEB9B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C92C73-D4B8-4CFE-AF79-DB287E3DC2E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38037A-C48B-405E-AE10-6D7705293FE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68177D-F1AB-4645-8DBC-9B489504D40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359F03-4E76-43C2-8788-56E3923969C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11466C-1FAE-460E-8EA9-70B8F9ED4F4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5D0729-0DC8-4D3D-88AA-378EEAFFCF5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72BF7D-C654-4DD0-A9C2-787F140D355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F59D-6AA1-47B6-B386-530F948AC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627466-FD7D-40BB-AB04-D9A7C0CCD06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0448EE-BF02-4F25-9FA1-D9CD75948BD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E3D956-05B2-4A57-B530-1F3EF6AF29B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9A4379-8901-4118-8D5E-3E2492C7E67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2A6D6A-AE08-4A38-87A6-BB362D1A0A1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A582-8A5A-4C74-8439-18149251C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A2CD-4BBC-4B09-A3F8-86ED66A8C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0CE2-D94B-498F-B07A-26271F331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F955-DC6F-42D2-AE4E-2D95F0BB0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5EFC-1AE5-45AF-B443-0844E6369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DE34-FC56-4998-B367-03F182B46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9BF0-1E96-409E-91FC-53AFAC2D2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004CE-5AA2-49C0-9254-F092D45869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059680" y="76320"/>
            <a:ext cx="998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B9610-08B5-43D3-8806-2FA67B7B52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145360" y="2209680"/>
            <a:ext cx="998640" cy="129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tcl.tk/cgi-bin/tct/tip/" TargetMode="External"/><Relationship Id="rId2" Type="http://schemas.openxmlformats.org/officeDocument/2006/relationships/hyperlink" Target="http://www.tcl.tk/cgi-bin/tct/tip/" TargetMode="External"/><Relationship Id="rId3" Type="http://schemas.openxmlformats.org/officeDocument/2006/relationships/hyperlink" Target="http://www.tcl.tk/cgi-bin/tct/tip/" TargetMode="External"/><Relationship Id="rId4" Type="http://schemas.openxmlformats.org/officeDocument/2006/relationships/hyperlink" Target="http://www.tcl.tk/cgi-bin/tct/tip/" TargetMode="External"/><Relationship Id="rId5" Type="http://schemas.openxmlformats.org/officeDocument/2006/relationships/hyperlink" Target="http://www.tcl.tk/cgi-bin/tct/tip/" TargetMode="External"/><Relationship Id="rId6" Type="http://schemas.openxmlformats.org/officeDocument/2006/relationships/hyperlink" Target="http://www.tcl.tk/cgi-bin/tct/tip/" TargetMode="External"/><Relationship Id="rId7" Type="http://schemas.openxmlformats.org/officeDocument/2006/relationships/hyperlink" Target="http://www.tcl.tk/cgi-bin/tct/tip/" TargetMode="External"/><Relationship Id="rId8" Type="http://schemas.openxmlformats.org/officeDocument/2006/relationships/hyperlink" Target="http://www.tcl.tk/cgi-bin/tct/tip/" TargetMode="External"/><Relationship Id="rId9" Type="http://schemas.openxmlformats.org/officeDocument/2006/relationships/hyperlink" Target="http://www.tcl.tk/cgi-bin/tct/tip/" TargetMode="External"/><Relationship Id="rId10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cove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52280" y="624852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 8.4 Ov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list comman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lset com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fficient way to replace e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dex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ist ?index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x into nested lists easi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search -all -ascii -decreasing -dictionar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increasing -inline -integer -not -rea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sorted -st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le’ enhanc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rtual File Sy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hooks into all FS function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ll support for 64-bit file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normal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separ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lin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test 2.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Greatly enhanced ‘test’ com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upports multiple error match 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uns multi-process for robust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100% backwards compatible with v1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rial Port Contro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config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rial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mod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ud,parity,data,stop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handshak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ype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queu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timeou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sec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tycontro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gnalMap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tystatu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xcha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harPair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pollinterva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sec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ysbuff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ze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configure -lasterr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4-bit “wide” integ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s int64 or long lo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completely transparent 32/64-bit barr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 wide(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tcl_platform(wordSiz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nary command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format wW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sca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ring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W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nged behavio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cop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respects encodings of its chann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ormat %l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likewise treat argument as wide inte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can %l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likewise no longer ignore the field width specif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urc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s the byte 0x1a (^Z) as an EOF char on all plat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ubs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reak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tinu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ring command substitution differen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cl_traceExe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cl_traceCompil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vailable with TCL_COMPILE_DEBUG bui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‘trace’ comma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a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rem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and tracing now pos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rmalized ‘memory’ comma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ful for debugging memory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ires compilation with TCL_MEM_DEBU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a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in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onex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ta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d memory displ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k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dget styling support (TIP #4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widg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gnificant widget enhanc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d I18N and L10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oved XIM and IME su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ll ?-ni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new feature of 8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pinbo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uilds on the entry wi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ast, feature rich and effic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anedwind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art widget, part geometry mana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labelfr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eparate from frame to not bloat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l 8.4 Overview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eff Hob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w Tk subcomman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pboard 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age in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hoto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ar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we can properly animate GIF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caret </a:t>
            </a: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?-x x? ?-y y? ?-height 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or controlling global car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lso directs placement of IME/XIM wind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ext’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undo/redo support with ‘edit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undo, -autoseparators and -maxundo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’ takes multiple range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ete’ takes multiple range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omic dele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virtual ev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&lt;Selection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&lt;Modified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m’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 stack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ew/Control the stacking order of top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 attrib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controlling the platform specific aspects of top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ations for Mac and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get Unix features in the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ly: topmost functionality on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mpound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ow both image and text to be displayed simultaneous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ientation can be controlled with -compound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 for all button types and label widget, as well as in men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t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abledbackground –disabledforeground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ry -state readonly -readonlyback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ckbutton -compound -overreli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box -disabledforeground -state -activesty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enu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nubutton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diobutton -overreli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ynchronous padd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left/right or top/bottom asymmetry in padding (-padx -pad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es to widget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bel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geometry manager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 columnconfigu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ster inde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 rowconfigu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ster inde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k dialog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_getOpenFile -multiple -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_getSaveFile -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k_getOpenFi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k_getSaveFi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different in whether the returned file name includes the exten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moved Tk Privat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Pr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[A-Z]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with ::tk::Priv and tk::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for ‘exporting’ the private comm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don’t use them anyw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Steps to 8.4.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esting, testing, testing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esting, testing, testing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Where to get i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cl Developer X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oints to everyt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</a:rPr>
              <a:t>http://www.tcl.tk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ctiveState ActiveTc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inary distributions with exten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ww.activestate.com/Products/ActiveTc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urceFor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re source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</a:rPr>
              <a:t>http://tcl.sourceforge.net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 time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s to 8.4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&amp;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ur 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686800" y="257184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9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8656560" y="257184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 flipV="1">
            <a:off x="6883560" y="328284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3193920" y="3276360"/>
            <a:ext cx="0" cy="191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1828800" y="3276360"/>
            <a:ext cx="0" cy="86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6386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60020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000240" y="5189400"/>
            <a:ext cx="299088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96396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48240" y="105732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2443320" y="3265200"/>
            <a:ext cx="0" cy="193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5392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60036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6232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39680" y="3524400"/>
            <a:ext cx="9288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9068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95264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308240" y="3648240"/>
            <a:ext cx="98568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949480" y="3648240"/>
            <a:ext cx="100980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0328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714840" y="4019400"/>
            <a:ext cx="192384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514836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57880" y="18194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419880" y="480060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. ActiveTcl 8.3.4.3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77724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7848720" y="3276360"/>
            <a:ext cx="0" cy="618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035920" y="2052720"/>
            <a:ext cx="91440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 8.4.0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4452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454560" y="4782960"/>
            <a:ext cx="433080" cy="417600"/>
            <a:chOff x="3454560" y="4782960"/>
            <a:chExt cx="433080" cy="417600"/>
          </a:xfrm>
        </p:grpSpPr>
        <p:sp>
          <p:nvSpPr>
            <p:cNvPr id="183" name=""/>
            <p:cNvSpPr/>
            <p:nvPr/>
          </p:nvSpPr>
          <p:spPr>
            <a:xfrm>
              <a:off x="3679560" y="49046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5896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55824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50676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350640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506400" y="4974480"/>
              <a:ext cx="31176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454560" y="4902840"/>
              <a:ext cx="433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7772400" y="283860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92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5357880" y="340056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962760" y="2971800"/>
            <a:ext cx="1886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96080" y="3886200"/>
            <a:ext cx="91440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1320" y="259092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305920" y="24861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143760" y="3733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824440" y="414324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. ActiveState TclPro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691320" y="5505480"/>
            <a:ext cx="221148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. ActiveState TclPro 2.0 beta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8.4 Development: TIP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First time the TIP process has defined a Tcl release</a:t>
            </a:r>
            <a:br>
              <a:rPr sz="3200"/>
            </a:b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www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tk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/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6"/>
              </a:rPr>
              <a:t>cgi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7"/>
              </a:rPr>
              <a:t>-bin/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8"/>
              </a:rPr>
              <a:t>tct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9"/>
              </a:rPr>
              <a:t>/tip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itially rough, but process has improv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f the 100+ TIPs, most targeted 8.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ny thanks to the maintainers and contribu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+% improved performance over 8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ly new Virtual File System (VF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ments to numerous comm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4-bit integer and file system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nor command enhanc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stat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nam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rrayName ?mo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patt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p recursionlim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sub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switch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xp string subSpec ?var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set ?-nocomplain? ?..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nam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 ‘eq’ and ‘ne’ for true string comparis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 -tail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atter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space ex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 scrip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file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ll User</cp:lastModifiedBy>
  <cp:lastPrinted>1999-01-02T23:07:33Z</cp:lastPrinted>
  <dcterms:modified xsi:type="dcterms:W3CDTF">2002-07-04T19:20:54Z</dcterms:modified>
  <cp:revision>406</cp:revision>
  <dc:subject/>
  <dc:title>8.4 Tcl Overview</dc:title>
</cp:coreProperties>
</file>