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B3F8-625A-48B9-AEDC-14CCE419A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B518-B01D-4170-AA71-F81F2D587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E730-B78F-4BD3-9E7A-6EC73F61E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4FC9-CF18-4397-AB99-7D7287506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5963-0D75-4C6F-BA41-CDDDA8E20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5A0D-C3ED-41B5-AFB4-F42829D38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46F2-1F1D-443A-B1B3-236157090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E7E9-D716-4842-9104-3A268560B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7FF9-56CD-4BB7-8C41-908C59975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766A-6B65-4123-9DF6-83615F65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8BC9-379C-4014-835F-412D0126E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0CDA-EA87-4A44-99CE-FA25FF42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6282B-052B-4A70-B903-FE010EF5C1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jen Mar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ew examples of Plotchart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 DeCoster’s xy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al: SCADA dis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use: just a few commands for a 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de range of plot and chart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d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s predecessor: emu_graph by Ste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si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dec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whole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form of cli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nage the data (duplic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ing the appearance takes effect for new data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the plot of the chosen type – new com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l in the data via subcomm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s differ per plot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de – linking method names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title)             Draw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xtext)             DrawX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plot)              Draw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dot)               DrawD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dotconfig)         DotConfig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interval)          DrawInter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trend)             DrawTrend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piechart,plot)            DrawP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piechart,saveplot)        SavePl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::Plotchart::createPiechart { w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data_se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s [array names data_series "$w,*"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set data_series($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newchart "piechart_$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rp alias {} $newchart {} ::Plotchart::PlotHandler piechart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pyConfig piechart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pxmin pymin pxmax pymax} [MarginsCircle $w] {break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iewPort $w $pxmin $pymin $pxmax $py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w create oval $pxmin $pymin $pxmax $py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Colours $w blue lightblue green yellow orange red magenta brow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aultLegend 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aultBalloon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$newch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– par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::Plotchart::PlotHandler { type w command args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methodPr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{ [info exists methodProc($type,$command)]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val $methodProc($type,$command) $w $ar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-code error "No such method - $command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: con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eople have contributed with code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 Stucky, Stefan Finzel, Pa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gel, Dave Hanks, Michael Baud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ve Blinkhorn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 DeCoster has developed xyplot on 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Plot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ly supported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Y-plots (also logarithmic ax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our plots (2D and 3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grams and pie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charts and Gantt 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al cha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ous types of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plots in one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4T04:30:44Z</dcterms:created>
  <dc:creator>Computer Services</dc:creator>
  <dc:description/>
  <dc:language>en-US</dc:language>
  <cp:lastModifiedBy>Computer Services</cp:lastModifiedBy>
  <dcterms:modified xsi:type="dcterms:W3CDTF">2010-06-04T04:48:12Z</dcterms:modified>
  <cp:revision>4</cp:revision>
  <dc:subject/>
  <dc:title>Plotchart</dc:title>
</cp:coreProperties>
</file>