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BA295-4A72-402A-B119-60DBD665E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43300-D214-4769-A3C7-7046DB406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66FA3-E27F-42F8-9E81-63F7459E0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F78D9-EB80-4FC6-8613-875C90137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ic 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 is in trou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have to decide how to so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33134-3E61-462D-A405-09FBB4B15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writer: how to synch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tool: similar too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B2459-6C03-47E2-B1C9-1057FA3C4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175E5-4AFD-4B82-8059-009EAD511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505FA-1076-4F72-B6A6-90FC8EB29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8CED7-BFBB-4937-AC9A-F6091FC8C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lso used in primary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D686A-F736-4427-A767-C43CDBF4A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3D4C-E0BB-4CE8-B938-2CB1878FF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ifferent toolsets for experiment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rocess activities are stored in a log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file is split into files per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s are converted to a format suitable for ME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pa is a special purpose program for processing and analysing protoc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more about MEPA because it isn’t written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87762-1B68-427E-9305-D098BFBE4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s, not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16EDE-B16F-4CCE-8862-F40F809EA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02CC1-EBB0-4C5C-B89F-E5FCFA8E4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ynamic loading mak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 development and bugfixes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 made http 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-platform is a wish, not a dem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EED1E-64ED-46C8-A196-4D6AA5DEA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clhttp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ttp is primary means of 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irewa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7322040" y="6019920"/>
            <a:ext cx="1480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9C181-5FAE-44B1-8FFC-E8933C327BE5}" type="slidenum">
              <a:rPr b="0" lang="en-GB" sz="16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/1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2743200" y="5334120"/>
            <a:ext cx="57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j.g.m.jaspers@uu.n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43200" y="1599840"/>
            <a:ext cx="57578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741760" y="2301840"/>
            <a:ext cx="575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1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 developmen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666880" y="3124080"/>
            <a:ext cx="5257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Jos Jasp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Langeveld Research Centre Learning in Intera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Utrecht Univers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The Netherlan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nchronis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stency, persistenc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les or 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ne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YSIW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llusion of one cop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waren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i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usal relations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ulatio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s (to be develope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dar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igned to evaluate the participation of students in the assign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assess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 algn="ctr">
              <a:lnSpc>
                <a:spcPct val="101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Verdana"/>
              </a:rPr>
              <a:t>DEMO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’s fu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 go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bl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ducational rele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ols for easier installation and mainten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acher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en sour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rov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n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741400" y="1619280"/>
            <a:ext cx="61736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w is the time to as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ail:  </a:t>
            </a:r>
            <a:r>
              <a:rPr b="0" lang="en-US" sz="2000" spc="-1" strike="noStrike" u="sng">
                <a:solidFill>
                  <a:srgbClr val="3a66ae"/>
                </a:solidFill>
                <a:uFillTx/>
                <a:latin typeface="Verdana"/>
                <a:hlinkClick r:id="rId1"/>
              </a:rPr>
              <a:t>j.g.m.jaspers@uu.n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edugate.fss.uu.nl/~crocicl/vcri_eng.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evalu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mon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rtual Collaborative Research Institu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ultiplatform groupware appl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rget ages of students 15-17 yea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nded for group assignments over longer periods (e.g. 10-15 hour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toolbox with  20 tools to support collabo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4" descr="VCRI-program"/>
          <p:cNvPicPr/>
          <p:nvPr/>
        </p:nvPicPr>
        <p:blipFill>
          <a:blip r:embed="rId1"/>
          <a:stretch/>
        </p:blipFill>
        <p:spPr>
          <a:xfrm>
            <a:off x="2906640" y="1619280"/>
            <a:ext cx="542772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CRI as a research tool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fferent toolsets in different experimental condi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ging of ev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mated conversion of logs to MEPA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ltiple Episode Protocol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flexible program for the annotation of, coding of verbal or nonverbal observational data or protoco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develop a system for coding observational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alyze the coded verbal or non-verbal protocols with a variety of quantitative or qualitative metho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2741760" y="1619280"/>
            <a:ext cx="57578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ent/serv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al cli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mote sourcing/dynamic loa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unication via (secure) htt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ever possible cross-platfor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Http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kit, Star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incr Tcl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OG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cel Broeken</dc:creator>
  <dc:description/>
  <cp:keywords>VCRI Tcl</cp:keywords>
  <dc:language>en-US</dc:language>
  <cp:lastModifiedBy>Auditorium</cp:lastModifiedBy>
  <dcterms:modified xsi:type="dcterms:W3CDTF">2008-06-06T08:49:28Z</dcterms:modified>
  <cp:revision>53</cp:revision>
  <dc:subject>VCRI</dc:subject>
  <dc:title>VCRI: Using shared visualisations for collabo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