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43514"/>
        <c:axId val="58481173"/>
      </c:barChart>
      <c:catAx>
        <c:axId val="829435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81173"/>
        <c:crosses val="autoZero"/>
        <c:auto val="1"/>
        <c:lblAlgn val="ctr"/>
        <c:lblOffset val="100"/>
        <c:noMultiLvlLbl val="0"/>
      </c:catAx>
      <c:valAx>
        <c:axId val="58481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435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075-6A58-4CE7-B3A6-9E32765C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04F-095F-44EB-9817-D0AE4F94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51F-6305-40EE-940E-3F1E9754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668-5D25-4356-84FE-A6391BC7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AA0-3D88-4085-B888-BFB776CD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0E3-91C4-4C8A-A8BE-FD01F294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637-762C-4C5D-9699-E97C8D56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9C6-18A4-4C00-83EC-0173C291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8F7-48E9-4BCF-A1CE-84D21852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68F-3CA5-45E7-8680-D6FE4D3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C59-6CBC-420C-8313-2B09843D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D63-8F71-4F9C-97D9-66CA11D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98384-5C7F-4BE7-B966-51C2BD63C3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