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71886"/>
        <c:axId val="29643547"/>
      </c:barChart>
      <c:catAx>
        <c:axId val="42271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43547"/>
        <c:crosses val="autoZero"/>
        <c:auto val="1"/>
        <c:lblAlgn val="ctr"/>
        <c:lblOffset val="100"/>
        <c:noMultiLvlLbl val="0"/>
      </c:catAx>
      <c:valAx>
        <c:axId val="29643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71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C4B-2499-4AA1-ABEA-19FBE8B5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6AD-CD4F-439C-9345-6BE6E637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7C7-D0B5-47BB-B49A-103C4F83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0B1-4E36-426F-9A8E-42BAA3EA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2BF-5B7A-4848-9099-D5DF7B50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30D-DC79-4064-A743-767BD3AC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957-05DC-466C-8925-1DC03731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DBC-CECF-4893-81E9-CE428716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EAE-CB45-46A2-AE3F-B8426D29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407-9A9B-48B7-B1A2-7C49B7BA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F21-8A74-4A91-9450-29A6B175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0E9-2135-4FE2-8C9C-1301492A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023D3-5D0C-4AF0-A1F4-6DAC8BF55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