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5CAD-AED9-46C5-8964-1A32BBA73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27C9-FE4C-4F20-9D6D-B3754F8D2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4979EC-DC08-464E-9846-1D58EE7A3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F551CA-B410-417F-996C-472E4C410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3FA0E1-B02C-40D5-9697-722DCC8D7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3EFBE0-2D41-43EE-B87B-830FF8B5C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71CB20-1ABA-4315-899C-8450DFDE0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7B4E8E-A03D-4686-984C-C8AB62B4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7CDCC0-7587-4EA9-A1CD-5E10CABBE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DA3E2E-C885-4C9B-94B5-B12C4927F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2EEFAC-3A90-4B02-AC94-ED34BB6C1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2C488E3-7A05-4B55-9BAE-B98728D55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1CF1-BCC9-4B2C-A584-9DAD81CE7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DE901B8-D5FB-477F-A8F1-66552833B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4E1764D-EA22-442B-8771-ADA617A6B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B628B71-A041-41F7-8F66-F2ABA95E7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297A40E-B700-4945-B213-1804FC523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BEB7C80-1B0D-4A69-95A2-93ADE2FD7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CA2CB2C-596D-44E1-9F7B-5A01A71B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32230A9-BD5C-4EF9-B00C-13FBEF233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681479F-669A-469F-BFF8-DFEE5BCF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C68AE43-D0C2-48C4-A51D-47868D30A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047AF1C-6FD9-49BD-A4A4-57AD2B2F8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AD0D-6804-49E1-967B-0A155C0F9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3F34D37-5880-4631-A453-1C4EEC075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A6A5F9-01FA-41E1-AE42-25783E057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60A75E-7DA5-41D8-A469-DB79FF114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A282C2-89E3-40FC-9C00-B8B352E9D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07643D-838D-4F8B-AEEC-AC0568D25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AA504A-3594-4A08-8613-FFBDB4F8E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FF2798-0185-4D57-8614-586C70C11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278891-9F4C-4561-9C7A-107581413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A57469-BA86-49F6-98C4-2257629D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5FB198-C6DD-4A6B-ADA4-C21FF9497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41C5A-E748-4709-8CA4-1E8992D1B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647702-86D2-407A-8F62-F5716808E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F9E363-1ED1-493E-8F62-BEA4EC182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5EA608-27A6-4385-86F9-31E5206E8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122380-6708-4C6F-BB50-6EE9FEA93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CE044A-DB87-4FD7-ABBB-D590A9F59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13F6D3-C92C-47EB-9953-A87F57843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054361-7590-4C20-984C-1DF3F9ABC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E59395-C832-4448-8D50-F1EA3818B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843B62-5712-4A0D-882E-74FBB5ABD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184DDA-4E42-43B0-9EB1-1BAAD9EC9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85AC0-186B-44F2-8A1F-9F1F0FF7B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A721BF-72BC-4C06-953E-8F8C5FB6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D3266C-12A0-41E0-ABC7-06B108E7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B4E255-DC54-4123-95E6-12C19926B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B067B1-F81B-4024-AE6F-65816021A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5F9C73-1F98-4211-B743-106E791A6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6BD23-E3B2-45FA-BF75-21B113ED4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3B61E-A008-46E0-AAEC-D7E0684B9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35ACC-AE07-425C-BCC3-758C967E9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E4816-C914-46D0-81E7-EA72ECCDD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99796-F70C-49BD-A56D-B941AA26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E3EC-C060-403E-B3CA-A3190D632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3A107-6111-4C93-8AC1-007278F58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2C8C6-B78D-44D1-86D3-F993E6BA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BA3EE-56ED-4171-A9F0-E45C5BF56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0698B-1B34-4D3D-B26D-07A232214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F742B-17B5-4701-B847-2CA39455C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F916A-5063-4644-B382-17DCC2D54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0C6F2-CC54-4678-BD53-8FB81D42F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78C79-4474-4F3F-ADE5-9707212F8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95A2D-C440-421B-A94F-AEEC1995D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5763B-435F-46F4-87CB-471E4EE8D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5904-6992-4D0D-ABCA-119DBEF09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D4E9D-CFE1-4AED-A553-20F70AE14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AA73D-7D94-4698-9E30-CC517ABB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6A06F-F06D-47CE-B46B-DC02EE3A1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C7498-4172-49FD-8A93-120C4962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1A451-DB0C-413F-B539-B907FB12D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392DD-754B-4B57-818C-76999085F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7DEE5-FB88-42AD-9A6A-4B388AFEE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F6F7C-BE15-4157-841D-F44F00FAC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BC0DC-9C19-4069-B5F5-C67D99C43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5BA38-11D7-4825-8501-398C1B1CB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80DD-A199-46ED-B39A-4A7DC5130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621A4-FED6-4AC7-AAF9-09A8C8F85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4AACE-FB7E-43BC-AF82-82D33DB7D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97389-87A8-4103-9A36-1906F312F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E3701-71CD-4DC6-852B-FDEBFBD5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9F5F4-E8A5-417B-910E-246D30A4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B2FC1-ADE5-4849-A52F-4F654A31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6530D-FA1A-470C-B10E-49FE22607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105A6-CA7B-494F-AA37-50D1C4D8A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1E037-BF0A-4928-975A-70D77C2F7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ABFF0A-51B5-4D86-B527-5912B5D84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6570-5409-4084-AA90-72C8BF6FA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FEAC90-2071-4B0E-81CB-C39DD261B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086BFF-626E-42ED-9282-720B296BF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69AF1A-FCE1-45C8-A38C-71EBE70A0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FCFAA6-E9D1-4ABD-888A-E981B62B9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CF5487-AF25-486A-BF11-D682E5DC0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5CACC0-84F1-45F7-AB07-732B3A6C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08545E-FC94-44F4-BCF4-BF206E455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A2F898-074A-4731-B9E2-9A013CF3B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3CC793-AF69-4C34-A04C-DABF35B50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0AD7E5-19EF-42D3-859D-9CB9A3CA5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03BA-20F4-4D57-9A38-2CD438BA7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A7A932-56E4-4093-A4F8-30E92D660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B0F16A-A670-4450-9284-AFDD4C849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BE4594-D12D-442A-A48B-82FEF6A6F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C734BF-52C9-4A28-B6F5-19616FC98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755C62-8F0B-4944-AC38-2ECF215C9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BF5BE-1E71-4B3B-B4FF-38B17A3B3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BDDCBE-FD85-4D2B-8988-A8FE0765B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798958-9A02-4B16-8A7F-D1561F432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17C53F-92FB-4C24-973A-99CC19BC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AE0CA0-124C-40D1-994E-66B85CC37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8176-EBD9-407C-AE65-2F633FDD7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19C028-B604-49EC-BC1D-B272097F8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D3E303-542E-4057-B646-1414E162C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5F02FD-2973-47DC-A1FE-AD919F67A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BC6B7B-B1AB-474A-B20D-3CBFD6D0C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B7BD2E-1B16-48ED-A921-94A7458BD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7B0770-E6C8-4226-A0CE-EFF3A8FA0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33B05D-7481-4290-AB92-57716F3D6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CDE623-F416-4A51-B52A-66BAA07BC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529CE1-55F7-4D37-98F8-F61D702A7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ADCBF7-934F-43E9-AB75-09F83146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D28B-832C-4A64-9E3B-6B00138E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F7F597-F8EE-4855-8112-7D073168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18BCF3-C2F2-4C55-9C83-71CE8D40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96CDD5-8C65-4C4C-B201-291253695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B046F0-F745-45D2-99F5-78F5BC5F5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FD31B4-D1F3-40A4-A00F-30CD1E3AB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9A8878-A0BF-41E5-A617-5D2DCA6E8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DB5DE1-D4F5-4867-A6ED-F07507592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4E4313-BBF8-4DFE-A687-95A64E445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763ED3-9069-48F2-855B-24B2AAC59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91C71E-404F-4049-947D-9E9039E20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B8B4-98CB-4AC4-ADF6-A250EED59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4D7B08-D9BC-4E1E-85E1-A92836BF5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E1D76D-BADB-40BE-8379-98EE2E55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5D4868-BF0C-4B75-9F8C-24BAE138D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725362-277D-401D-9953-26B5C1F4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3C8366-3682-4226-B8E9-DBF926AF2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B82EB4-3B03-4251-A776-E2B1F3889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F09F9C-9EE2-4D28-B3BF-3AB781011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360C5C-220D-4708-8E26-AACD2B7EB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679179-3F51-4748-ABEC-C6DBC4BA2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14287D-7769-41AC-8A88-3E8E787DD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69041-0E95-4472-98C6-5EDC085CDA96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5F375-77FF-48C9-843B-098C26EE8F2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2029E-E251-4E77-A8EE-C673B06A0C5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FC01F-BE08-4424-A60D-ED64A87F2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AC306-493C-4C98-8C6F-C78ECEC93F48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61C81-1D0D-482D-A7DA-81FE10809434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650E7-9F1E-4433-B0D4-CDFCF028A652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31825-A3D0-4FBB-8BF3-97F812C8E054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9D328-AD4E-4945-8B8E-8C7304C0F57C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611FE-3C0C-4EF8-86A2-4F74720323F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F4115-C4C1-4A29-9B1F-598277CF741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BC46D-1E53-4A91-8AB8-D2D3D8DC24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6FF72-A119-42F2-95A4-8D70A2AE801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2C07A-2571-4637-9549-83FF45383F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258CA-A524-4E00-8AAF-24716F11452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8C79C-C604-4266-BA65-6358F2D6D121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17447-0BA3-4FF8-92C3-BA28AF3F3CAB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C8400-B14D-4660-855D-52385DA78F3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75EC9-3382-4AA5-B768-92E0F96ADF2D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A97F0-9C17-4851-88FF-4519653AC31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6037C-E956-439B-A153-1E9D685DF537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A3F7B-AF20-4DB0-AD20-C0751BDB5E4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9CB86-EDE2-4945-A0BA-2F6B594F22A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B3782-E6E9-47D8-9CF4-202E98C35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4F76-A29C-4480-8AFB-F7D4C2F2CD4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3ABD93-0E36-4E82-8374-DEEDA6796351}" type="datetime1">
              <a:rPr lang="en-US"/>
              <a:t>07/30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FADBA3-8D9E-4DEC-9DA6-D63B29D36F3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A6BEA16C-883B-4A51-86F4-46C228055EBF}" type="datetime1">
              <a:rPr lang="en-US"/>
              <a:t>07/30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5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2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2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8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D2D25-88A0-4052-B7E0-3B299FC3EBC2}" type="slidenum">
              <a:t>3</a:t>
            </a:fld>
          </a:p>
        </p:txBody>
      </p:sp>
    </p:spTree>
  </p:cSld>
  <p:transition>
    <p:comb dir="horz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000"/>
                            </p:stCondLst>
                            <p:childTnLst>
                              <p:par>
                                <p:cTn id="1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0"/>
                            </p:stCondLst>
                            <p:childTnLst>
                              <p:par>
                                <p:cTn id="19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947A64-FF02-48BA-AFDE-D2C486ACEB52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8B0F6286-F7D8-44AC-8501-D3B784FA4E3B}" type="datetime1">
              <a:rPr lang="en-US"/>
              <a:t>07/30/26</a:t>
            </a:fld>
          </a:p>
        </p:txBody>
      </p:sp>
    </p:spTree>
  </p:cSld>
  <p:transition>
    <p:wedg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1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4000"/>
                            </p:stCondLst>
                            <p:childTnLst>
                              <p:par>
                                <p:cTn id="2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6000"/>
                            </p:stCondLst>
                            <p:childTnLst>
                              <p:par>
                                <p:cTn id="2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9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1AD525-9FA0-4D38-9EA3-4F343F20DB0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E92BD730-725C-4FD2-9A8F-1EDB1DE1A353}" type="datetime1">
              <a:rPr lang="en-US"/>
              <a:t>07/30/26</a:t>
            </a:fld>
          </a:p>
        </p:txBody>
      </p:sp>
    </p:spTree>
  </p:cSld>
  <p:transition>
    <p:wipe dir="d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4000"/>
                            </p:stCondLst>
                            <p:childTnLst>
                              <p:par>
                                <p:cTn id="28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0"/>
                            </p:stCondLst>
                            <p:childTnLst>
                              <p:par>
                                <p:cTn id="2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6000"/>
                            </p:stCondLst>
                            <p:childTnLst>
                              <p:par>
                                <p:cTn id="29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7000"/>
                            </p:stCondLst>
                            <p:childTnLst>
                              <p:par>
                                <p:cTn id="30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8000"/>
                            </p:stCondLst>
                            <p:childTnLst>
                              <p:par>
                                <p:cTn id="3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9000"/>
                            </p:stCondLst>
                            <p:childTnLst>
                              <p:par>
                                <p:cTn id="3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6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8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3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8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EE4DF5-2DDC-4A24-A5D4-DBF71444944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7DA3FE89-A0DF-4C80-A386-234DFA61BB53}" type="datetime1">
              <a:rPr lang="en-US"/>
              <a:t>07/30/26</a:t>
            </a:fld>
          </a:p>
        </p:txBody>
      </p:sp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3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4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2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3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