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29C2-351A-4C0C-BA2E-CB1668EC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A374-270E-443B-B21F-C31B8485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8017E-7223-49A7-9EE5-B25DFAB1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26653-317D-4B71-854E-BED027CA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CC70B-01C3-401C-819B-8D45B65B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35A8E-B9B4-418B-9F91-2239DACA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094AF-EABC-45A7-B369-56522926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60833-D9D7-408F-BB02-FEE60E57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0285D-B07F-4A98-809A-602909BB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D1DB5-BF4F-4FA9-8BE2-63309E4E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DEE37-073A-46DC-80A2-4E8CBC04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085659-31A8-4459-9DA0-34513D79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4308-2CFE-43A5-BFDB-405C2145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24668B-10C8-4AF6-9F29-56DF4914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824336-CB1C-42CA-8E7C-841F9FA6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1962C9-8E8D-4BE8-97A0-A492AE78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172E8A-FEF2-4648-827D-B5F55C8C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18D5AE-7F6F-4CDC-9863-DB5F09E7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FEE051-D7EF-46A4-8553-16D6DCA7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2ECB6A-5A11-41D6-A286-A4D4700A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456F6C-208B-4A06-A9DF-19EB2929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9030F5-0794-4F14-B9B2-20DF8907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295CD4-B6AD-462C-9F67-EED521D4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CC6-BE60-4156-9FD7-7C3F5D08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BA5E19-98B9-49C5-9CDF-997EE8C2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0E610-7E3C-4028-88FC-5A0FC30B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97D60-9C11-4E86-831B-1BE939E8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C3AE9-7194-4026-8C7E-4A418F71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1BE9C-E5E9-4433-AC13-C2056E4B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CB189-8CE5-4354-842A-0FEB1D38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ED98E-A877-4F68-AF24-9432A412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25C00-489B-4D91-97D2-7A22544A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F0FA3-43E1-4108-983C-6BF7785C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689ED-A2B2-4C86-B49C-BD41DC5A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E4EB-59E5-42D2-B535-2775A849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A0A94-9B41-4AA5-AED8-0EE38EBC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A1C9E-C763-4DD6-A426-CCC03F3D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FB9E4-6F3C-447F-BB7B-2BE9269A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1DC01-8568-4432-8C71-B85A0317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19C1E-26FD-44DC-BBE3-1DA21DC2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451B4-BAA9-480C-8E69-85D546A4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F8518-B8A7-4B84-AEA6-82E7A8D6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7C084-8D88-46B0-BBA9-9E2451D3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B1457-481A-48D5-AD9E-9D84037D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68982-A321-4928-9CA6-05AAE557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C062-A708-4723-922E-5576A016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ECD60-3BCA-46CD-8B7E-2F794ABA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6A9C5-899A-49AF-8BA5-F4927E09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3F0FA-D13F-4812-9FEF-65513C21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32948-DC18-439A-BA44-EAFA5048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DBDB7-79C1-41B5-AE9A-2A76AEC8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0A62-1DD4-4244-9314-C3508277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3394-4CAC-4583-B9A4-D803FC60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BAED-6CC3-4389-83E1-C861519D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4B7A-A0C9-4353-BFF0-83D76333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9EC2-D992-4B6F-959F-B0AB46B7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EBC5-C961-41B6-A074-EC949C22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7D5C-34F3-40B5-B243-A45A5A5E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7AF1-F8E8-46AC-9D82-979B347C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F92C-9A06-462D-88F7-2F9DA314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9A47-E454-4518-B319-EB5BA107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F556-53D5-4DD2-8C4D-C05AF379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2761C-4FAB-46B0-BE5C-CA245BEB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734A5-2027-4237-BA40-D54A03B4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D25AD-521A-40F8-8148-B08C22B9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7242F-BE0B-4966-B28A-D9C5E355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ACC3C-BB54-4837-9711-17208140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96C-E89F-479F-81C0-F3A5EA31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5767A-C707-436E-9421-52B99C46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3CEA5-4A0D-4167-9E00-8F424E7A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8B751-9AF0-45F0-AA17-CCCA2821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5A283-636F-48CB-BF57-025C20D2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2DE92-A35B-4DE1-900E-947D5233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AA546-3E47-40E5-AA9E-326D0501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7E989-29E1-45A6-B691-150154FE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E72BC-AC23-4993-A389-AECBE982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66479-19E2-4221-ADB4-8ACA59AD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5813A-1E49-40FC-837A-EC3A71BA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8EE7-6137-4191-A923-C6A3005A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4D219-DD65-4CFA-87FB-613CB8A7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2467B-492B-4416-9056-9AA5B581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C05F5-3644-46D2-A701-264A785C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FA2E4-0439-4B1F-B3A6-7AABB211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FB728-DAFE-419B-820D-B4F9AB10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A1ACD-07E4-4BB2-A2F6-CD11DCBE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3298C-54DC-4BA4-A7EE-66F6E50F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04B8C-7EF2-4AD2-B6B6-B91552EF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9D7C8-E1CE-495F-9EAD-C6DC4CDA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8C0B19-B044-4C84-9D7B-762F45F1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4BCF-05E9-4C84-9C41-3930376E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465096-E6A2-49BD-AFEF-A3F80671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7D2DFC-29FD-408C-83D3-FF01E94A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57627-F8BC-47B6-9C21-6F51A1F6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1204E3-2593-4B3B-87AE-87280DE0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629FB4-783C-498C-8511-6EE482FE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4AFF9B-18F1-4DFC-8DFA-76831D2C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723F97-0EE3-41A5-BD5B-39DE13F4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3BB083-D73F-4351-B20F-4D522C3A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90D84E-2EB7-4D96-9193-CFB8AE1E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AE3DCE-257D-4DD2-AEEF-2D0D171D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028B-474B-40FD-B588-EF1AECD9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995333-E917-406A-8F5D-344538CF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77091-772C-4B48-834D-3C546FDB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97F94-0FC3-4CE4-B57B-58B97CA1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BFD8A-9880-4816-B229-F9A64449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D8A65-B624-4E37-9BD2-5ACDEF20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20AA0-D50F-4320-9E61-F96A32D7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FBB23-911D-43E3-AE6F-B0456301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1FF92-6F45-41FB-A7F9-465F1AD1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58D9A-3767-43F1-B08D-697D3F61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8D367-682D-4352-9476-3CA76044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E1DC-54ED-479F-8B06-7532917C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AE6D8-894F-46E9-86FC-D7057F64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09500-D711-4C8C-B424-A8F21AF6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8CD2F-3534-490E-BDA3-250F8C90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B4986-F29B-4F20-8A45-52D51880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49859-B815-4166-9169-2269A207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20F13-70E7-4B91-8A6B-BA7E8ECE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744E4-8915-4FF9-814B-6D9922A8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2919B-5815-4624-AA1B-43AFCFEA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AD6D6-2B07-4DF2-A076-C9A49456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CECA1-B9C9-4211-82AB-125384C7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81C-5CC3-418C-884B-0BD0A733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2B36A-8079-409A-ADDC-A96D1302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31193-F629-4BC9-8B72-0C5068BB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1559A-2A0E-41FD-98EF-5690850D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15564-6191-47C6-9C21-95C3A95C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CE042-6FAF-4945-99F6-85AD35FE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2B4EE-4907-47F5-869C-2D35F7BF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C27F9-C26A-4D9A-9137-60D6C11A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28F68-30FE-4A7E-9B7B-7C6EB43E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FD19D-FADC-4681-AF40-76180BD0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67301-03C3-48FD-B25A-3C43752D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5B4-AFBD-4BB0-88B2-48564CE2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BD584-239A-465C-949C-7CC1F9A5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38CA2-9417-419F-B5D7-B3E6E8E3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3D74F-3F24-417C-8FDA-64AFA20A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6D1E7-3FE4-4865-AC9B-ADC19463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F2E6F-F2D2-406A-9153-B316D894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485CC-1FAE-4420-993F-FAC49636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F64F1-2936-43D2-8F8E-83A9D5CB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2ADD4-2B84-4FAB-ABAB-7B506979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04238-32CA-443E-94CE-1096D0E7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94876-6AB3-4711-8684-6E7316D2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92EE-FB67-4D2E-932A-29A06116781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4020-36F6-4462-8965-1B7628CAEC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1A95-1BC0-4972-814D-41F3336A272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17BC-2C5E-4201-A108-AA3A2F187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D879-2BE9-41FA-A608-2DEB65C5C36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90FB-7EA0-41F0-94EE-82A5825AC87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3753-B5D6-4490-9AD2-8A30ED2C621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902C-51BE-4664-B55C-2F73797CB31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843E-5B65-4602-94E7-F146166A9E2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B171-E5D4-46E4-8308-63760C6ABF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3399-305D-4CD8-8F1A-1D0A713C70F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F4CC-A1F4-4DD4-893D-470224F34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D417-D646-4B08-9ACB-8A7D7D4C693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D33E-3E44-4046-BDAA-4FD677BB9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1D53-7771-4D38-95C2-F95DDE366B8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5F1B-6725-42B8-B5B7-8461E9DD43C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A842-4271-4D71-9FF9-ABCA991718E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4569-F989-4229-8DE6-083FF911298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6747-6ABA-4E7A-97E5-52B4414048D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5AD6-1C84-4352-919D-23DCA07C95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F207-820A-4C1D-8BA7-B912A7D6A05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826F-98D0-448A-8D55-8350783DA95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E3AB-0DEE-439C-B6EB-A0B9493E373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357B-8B1A-4684-B8C5-3FFFF772F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2ADB-2227-40A9-9085-0F18D046B9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DD589-B1E0-4B5A-B5E4-8217FFF748B7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43F2D-F2DF-4089-A8E3-4E3E83A95F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D5CCDE3C-7A28-4BB6-BE26-38077D96CD62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79424-BDD9-4E6E-827B-DADE47468DDC}" type="slidenum">
              <a:t>3</a:t>
            </a:fld>
          </a:p>
        </p:txBody>
      </p:sp>
    </p:spTree>
  </p:cSld>
  <p:transition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DDCDAA-7CC3-4996-9690-5E1AA0C0E96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1C72461B-439E-4556-89A8-0BF55FBC8D06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C9045-8D8F-43C1-B10C-A4A3EEED19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0257011A-E100-4877-97E5-DAAE21AD4063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A1DAD-0323-4C8A-891D-B16821741F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11CB192F-9FDB-40ED-8B8B-36A73879DFB4}" type="datetime1">
              <a:rPr lang="en-US"/>
              <a:t>07/30/26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