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523520" y="374976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523520" y="374976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428440" y="374976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100040" y="160020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76560" y="160020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523520" y="374976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100040" y="374976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76560" y="374976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523520" y="1600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01920" y="-155880"/>
            <a:ext cx="7619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523520" y="374976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428440" y="374976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523520" y="374976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text%20page_new" descr=""/>
          <p:cNvPicPr/>
          <p:nvPr/>
        </p:nvPicPr>
        <p:blipFill>
          <a:blip r:embed="rId2"/>
          <a:stretch/>
        </p:blipFill>
        <p:spPr>
          <a:xfrm>
            <a:off x="-9360" y="-7920"/>
            <a:ext cx="9162720" cy="6873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80002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23520" y="1600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a8000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a8000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a8000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a8000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a8000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a8000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8000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8000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53800" y="633564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919191"/>
                </a:solidFill>
                <a:latin typeface="Arial"/>
              </a:rPr>
              <a:t>Xerion</a:t>
            </a:r>
            <a:endParaRPr b="0" lang="en-US" sz="18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498520" y="6465960"/>
            <a:ext cx="104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4963E-E918-46EA-8E70-7983E4D1E575}" type="slidenum">
              <a:rPr b="1" lang="de-DE" sz="14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42280" cy="69454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100960" y="3922560"/>
            <a:ext cx="4941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800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800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Xerion Pharmaceuticals AG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a800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y 2003</a:t>
            </a:r>
            <a:endParaRPr b="0" lang="en-US" sz="28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– Doubleclick a table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0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09" name="classic3" descr=""/>
          <p:cNvPicPr/>
          <p:nvPr/>
        </p:nvPicPr>
        <p:blipFill>
          <a:blip r:embed="rId1"/>
          <a:stretch/>
        </p:blipFill>
        <p:spPr>
          <a:xfrm>
            <a:off x="1490760" y="1789200"/>
            <a:ext cx="765324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– Select column and click next table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14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17" name="classic4" descr=""/>
          <p:cNvPicPr/>
          <p:nvPr/>
        </p:nvPicPr>
        <p:blipFill>
          <a:blip r:embed="rId1"/>
          <a:stretch/>
        </p:blipFill>
        <p:spPr>
          <a:xfrm>
            <a:off x="1465200" y="1684440"/>
            <a:ext cx="7678800" cy="42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– Doubleclick other tables column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2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25" name="classic5" descr=""/>
          <p:cNvPicPr/>
          <p:nvPr/>
        </p:nvPicPr>
        <p:blipFill>
          <a:blip r:embed="rId1"/>
          <a:stretch/>
        </p:blipFill>
        <p:spPr>
          <a:xfrm>
            <a:off x="1504800" y="1925640"/>
            <a:ext cx="76392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finished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30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33" name="classic6" descr=""/>
          <p:cNvPicPr/>
          <p:nvPr/>
        </p:nvPicPr>
        <p:blipFill>
          <a:blip r:embed="rId1"/>
          <a:stretch/>
        </p:blipFill>
        <p:spPr>
          <a:xfrm>
            <a:off x="1530360" y="1887480"/>
            <a:ext cx="7613640" cy="41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Edit tabl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Switching to edit mode gives you the possibility to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Insert dataset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Edit dataset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Delete dataset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39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Doubleclick a table to view its content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4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49" name="classic_edit1" descr=""/>
          <p:cNvPicPr/>
          <p:nvPr/>
        </p:nvPicPr>
        <p:blipFill>
          <a:blip r:embed="rId1"/>
          <a:stretch/>
        </p:blipFill>
        <p:spPr>
          <a:xfrm>
            <a:off x="2195640" y="1685880"/>
            <a:ext cx="622296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lick “ADD ROW” to insert a dataset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54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57" name="classic_edit2" descr=""/>
          <p:cNvPicPr/>
          <p:nvPr/>
        </p:nvPicPr>
        <p:blipFill>
          <a:blip r:embed="rId1"/>
          <a:stretch/>
        </p:blipFill>
        <p:spPr>
          <a:xfrm>
            <a:off x="1698480" y="1901880"/>
            <a:ext cx="708516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New dataset added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6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65" name="classic_edit4" descr=""/>
          <p:cNvPicPr/>
          <p:nvPr/>
        </p:nvPicPr>
        <p:blipFill>
          <a:blip r:embed="rId1"/>
          <a:stretch/>
        </p:blipFill>
        <p:spPr>
          <a:xfrm>
            <a:off x="2259000" y="1555920"/>
            <a:ext cx="6222960" cy="29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The select mode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Switching to “select mode” enables you to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Execute queries on selected column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Execute queries with “where clause” on selected column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71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Select desired column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78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81" name="classic_select2" descr=""/>
          <p:cNvPicPr/>
          <p:nvPr/>
        </p:nvPicPr>
        <p:blipFill>
          <a:blip r:embed="rId1"/>
          <a:stretch/>
        </p:blipFill>
        <p:spPr>
          <a:xfrm>
            <a:off x="1465200" y="1631880"/>
            <a:ext cx="7678800" cy="42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95280" y="152712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Founded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August 1998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Business Segment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1st: Target Validation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2nd: Drug Development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Bioinformatics Tasks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1st: In Silico Analyse of Biological Data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2nd: Development of a Validated Target Database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Locations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Martinsried - Germany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Cambridge, MA – USA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Email: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mfickert@xerion-pharma.com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a80002"/>
                </a:solidFill>
                <a:latin typeface="Arial"/>
              </a:rPr>
              <a:t>The Company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4280" y="2014560"/>
            <a:ext cx="95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Examples 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87280" y="1609560"/>
            <a:ext cx="1144440" cy="179280"/>
            <a:chOff x="287280" y="1609560"/>
            <a:chExt cx="1144440" cy="179280"/>
          </a:xfrm>
        </p:grpSpPr>
        <p:sp>
          <p:nvSpPr>
            <p:cNvPr id="48" name=""/>
            <p:cNvSpPr/>
            <p:nvPr/>
          </p:nvSpPr>
          <p:spPr>
            <a:xfrm>
              <a:off x="287280" y="1771920"/>
              <a:ext cx="11444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88720" y="1609560"/>
              <a:ext cx="0" cy="179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703600"/>
            <a:ext cx="1409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Query result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8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89" name="classic_select3" descr=""/>
          <p:cNvPicPr/>
          <p:nvPr/>
        </p:nvPicPr>
        <p:blipFill>
          <a:blip r:embed="rId1"/>
          <a:stretch/>
        </p:blipFill>
        <p:spPr>
          <a:xfrm>
            <a:off x="2001960" y="1825560"/>
            <a:ext cx="622296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Using “where clause”, choose column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94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97" name="where1" descr=""/>
          <p:cNvPicPr/>
          <p:nvPr/>
        </p:nvPicPr>
        <p:blipFill>
          <a:blip r:embed="rId1"/>
          <a:stretch/>
        </p:blipFill>
        <p:spPr>
          <a:xfrm>
            <a:off x="1558800" y="1125360"/>
            <a:ext cx="7585200" cy="52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hoose operator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0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05" name="classic_select_where2" descr=""/>
          <p:cNvPicPr/>
          <p:nvPr/>
        </p:nvPicPr>
        <p:blipFill>
          <a:blip r:embed="rId1"/>
          <a:stretch/>
        </p:blipFill>
        <p:spPr>
          <a:xfrm>
            <a:off x="2535120" y="952560"/>
            <a:ext cx="520704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hoose condition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10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13" name="where2" descr=""/>
          <p:cNvPicPr/>
          <p:nvPr/>
        </p:nvPicPr>
        <p:blipFill>
          <a:blip r:embed="rId1"/>
          <a:stretch/>
        </p:blipFill>
        <p:spPr>
          <a:xfrm>
            <a:off x="1517760" y="1122480"/>
            <a:ext cx="7626240" cy="53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18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21" name="classic_select_where4" descr=""/>
          <p:cNvPicPr/>
          <p:nvPr/>
        </p:nvPicPr>
        <p:blipFill>
          <a:blip r:embed="rId1"/>
          <a:stretch/>
        </p:blipFill>
        <p:spPr>
          <a:xfrm>
            <a:off x="2316240" y="952560"/>
            <a:ext cx="520704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Query result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2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29" name="classic_select_where5" descr=""/>
          <p:cNvPicPr/>
          <p:nvPr/>
        </p:nvPicPr>
        <p:blipFill>
          <a:blip r:embed="rId1"/>
          <a:stretch/>
        </p:blipFill>
        <p:spPr>
          <a:xfrm>
            <a:off x="2027160" y="1903320"/>
            <a:ext cx="622296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Example 2 – User defined typ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wo different types were defined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ADDRESS_TY -&gt; street, city, zip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PERSON_TY -&gt; firstname, lastname, addres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One table was created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EMPLOYEE (ID, person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35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4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45" name="nested_types1" descr=""/>
          <p:cNvPicPr/>
          <p:nvPr/>
        </p:nvPicPr>
        <p:blipFill>
          <a:blip r:embed="rId1"/>
          <a:stretch/>
        </p:blipFill>
        <p:spPr>
          <a:xfrm>
            <a:off x="1452600" y="1612800"/>
            <a:ext cx="7691400" cy="42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All elements are shown…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50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53" name="nested_types2" descr=""/>
          <p:cNvPicPr/>
          <p:nvPr/>
        </p:nvPicPr>
        <p:blipFill>
          <a:blip r:embed="rId1"/>
          <a:stretch/>
        </p:blipFill>
        <p:spPr>
          <a:xfrm>
            <a:off x="1787400" y="1916280"/>
            <a:ext cx="6934320" cy="26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All elements are shown…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58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61" name="nested_types3" descr=""/>
          <p:cNvPicPr/>
          <p:nvPr/>
        </p:nvPicPr>
        <p:blipFill>
          <a:blip r:embed="rId1"/>
          <a:stretch/>
        </p:blipFill>
        <p:spPr>
          <a:xfrm>
            <a:off x="1463760" y="2786040"/>
            <a:ext cx="768024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WHY ORASTATE?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23520" y="1723680"/>
            <a:ext cx="7620120" cy="39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Oracle Structure Tool And Table Editor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Graphical representation of database and its relation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Representation has to be build on ones own.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No bulky insert and select statement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157320" y="2575080"/>
            <a:ext cx="1018800" cy="178920"/>
            <a:chOff x="157320" y="2575080"/>
            <a:chExt cx="1018800" cy="178920"/>
          </a:xfrm>
        </p:grpSpPr>
        <p:sp>
          <p:nvSpPr>
            <p:cNvPr id="57" name=""/>
            <p:cNvSpPr/>
            <p:nvPr/>
          </p:nvSpPr>
          <p:spPr>
            <a:xfrm>
              <a:off x="157320" y="273708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58760" y="257508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Example 3 – REF’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wo tables were created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ANIMAL (object table) -&gt; breed, name, birthdate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(some datasets were inserted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KEEPER -&gt; name, ref of animal_ty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67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74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77" name="ref1" descr=""/>
          <p:cNvPicPr/>
          <p:nvPr/>
        </p:nvPicPr>
        <p:blipFill>
          <a:blip r:embed="rId1"/>
          <a:stretch/>
        </p:blipFill>
        <p:spPr>
          <a:xfrm>
            <a:off x="1490760" y="2109960"/>
            <a:ext cx="7653240" cy="42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Insert and choose data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8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85" name="ref2" descr=""/>
          <p:cNvPicPr/>
          <p:nvPr/>
        </p:nvPicPr>
        <p:blipFill>
          <a:blip r:embed="rId1"/>
          <a:stretch/>
        </p:blipFill>
        <p:spPr>
          <a:xfrm>
            <a:off x="1477800" y="1197000"/>
            <a:ext cx="7666200" cy="1695600"/>
          </a:xfrm>
          <a:prstGeom prst="rect">
            <a:avLst/>
          </a:prstGeom>
          <a:ln w="0">
            <a:noFill/>
          </a:ln>
        </p:spPr>
      </p:pic>
      <p:pic>
        <p:nvPicPr>
          <p:cNvPr id="286" name="ref3" descr=""/>
          <p:cNvPicPr/>
          <p:nvPr/>
        </p:nvPicPr>
        <p:blipFill>
          <a:blip r:embed="rId2"/>
          <a:stretch/>
        </p:blipFill>
        <p:spPr>
          <a:xfrm>
            <a:off x="2014560" y="3462480"/>
            <a:ext cx="6222960" cy="29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Dataset in database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91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94" name="ref4" descr=""/>
          <p:cNvPicPr/>
          <p:nvPr/>
        </p:nvPicPr>
        <p:blipFill>
          <a:blip r:embed="rId1"/>
          <a:stretch/>
        </p:blipFill>
        <p:spPr>
          <a:xfrm>
            <a:off x="1503360" y="1424160"/>
            <a:ext cx="7640640" cy="1688760"/>
          </a:xfrm>
          <a:prstGeom prst="rect">
            <a:avLst/>
          </a:prstGeom>
          <a:ln w="0">
            <a:noFill/>
          </a:ln>
        </p:spPr>
      </p:pic>
      <p:pic>
        <p:nvPicPr>
          <p:cNvPr id="295" name="ref5" descr=""/>
          <p:cNvPicPr/>
          <p:nvPr/>
        </p:nvPicPr>
        <p:blipFill>
          <a:blip r:embed="rId2"/>
          <a:stretch/>
        </p:blipFill>
        <p:spPr>
          <a:xfrm>
            <a:off x="1500120" y="3719520"/>
            <a:ext cx="7643880" cy="26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divider%20page" descr=""/>
          <p:cNvPicPr/>
          <p:nvPr/>
        </p:nvPicPr>
        <p:blipFill>
          <a:blip r:embed="rId1"/>
          <a:stretch/>
        </p:blipFill>
        <p:spPr>
          <a:xfrm>
            <a:off x="0" y="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297" name="divider%20page" descr=""/>
          <p:cNvPicPr/>
          <p:nvPr/>
        </p:nvPicPr>
        <p:blipFill>
          <a:blip r:embed="rId2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63360" y="148104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mpany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74600" y="1898640"/>
            <a:ext cx="1201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Target Valida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96840" y="2494080"/>
            <a:ext cx="1279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Antibody Leads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476280" y="1622520"/>
            <a:ext cx="955800" cy="149040"/>
            <a:chOff x="476280" y="1622520"/>
            <a:chExt cx="955800" cy="149040"/>
          </a:xfrm>
        </p:grpSpPr>
        <p:sp>
          <p:nvSpPr>
            <p:cNvPr id="302" name=""/>
            <p:cNvSpPr/>
            <p:nvPr/>
          </p:nvSpPr>
          <p:spPr>
            <a:xfrm>
              <a:off x="476280" y="1757520"/>
              <a:ext cx="955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77720" y="1622520"/>
              <a:ext cx="0" cy="1490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304" name=""/>
          <p:cNvSpPr/>
          <p:nvPr/>
        </p:nvSpPr>
        <p:spPr>
          <a:xfrm>
            <a:off x="466560" y="3062160"/>
            <a:ext cx="90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Business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66560" y="3468600"/>
            <a:ext cx="90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Finance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523880" y="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a50021"/>
                </a:solidFill>
                <a:latin typeface="Arial"/>
              </a:rPr>
              <a:t>Xerion extends its value chain  </a:t>
            </a:r>
            <a:endParaRPr b="0" lang="en-US" sz="2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307" name="divider%20page" descr=""/>
          <p:cNvPicPr/>
          <p:nvPr/>
        </p:nvPicPr>
        <p:blipFill>
          <a:blip r:embed="rId3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08" name="divider%20page" descr=""/>
          <p:cNvPicPr/>
          <p:nvPr/>
        </p:nvPicPr>
        <p:blipFill>
          <a:blip r:embed="rId4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09" name="divider%20page" descr=""/>
          <p:cNvPicPr/>
          <p:nvPr/>
        </p:nvPicPr>
        <p:blipFill>
          <a:blip r:embed="rId5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10" name="divider%20page" descr=""/>
          <p:cNvPicPr/>
          <p:nvPr/>
        </p:nvPicPr>
        <p:blipFill>
          <a:blip r:embed="rId6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11" name="divider%20page" descr=""/>
          <p:cNvPicPr/>
          <p:nvPr/>
        </p:nvPicPr>
        <p:blipFill>
          <a:blip r:embed="rId7"/>
          <a:stretch/>
        </p:blipFill>
        <p:spPr>
          <a:xfrm>
            <a:off x="-157320" y="-324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12" name="divider%20page" descr=""/>
          <p:cNvPicPr/>
          <p:nvPr/>
        </p:nvPicPr>
        <p:blipFill>
          <a:blip r:embed="rId8"/>
          <a:stretch/>
        </p:blipFill>
        <p:spPr>
          <a:xfrm>
            <a:off x="-157320" y="-324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13" name="divider%20page" descr=""/>
          <p:cNvPicPr/>
          <p:nvPr/>
        </p:nvPicPr>
        <p:blipFill>
          <a:blip r:embed="rId9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14" name="divider%20page" descr=""/>
          <p:cNvPicPr/>
          <p:nvPr/>
        </p:nvPicPr>
        <p:blipFill>
          <a:blip r:embed="rId10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482760" y="228600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a80002"/>
                </a:solidFill>
                <a:latin typeface="Arial"/>
              </a:rPr>
              <a:t>About implementation</a:t>
            </a:r>
            <a:endParaRPr b="0" lang="en-US" sz="24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Packages used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523520" y="1723680"/>
            <a:ext cx="7620120" cy="39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[incr] Tc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1" marL="762120" indent="-304920">
              <a:spcBef>
                <a:spcPts val="400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a80002"/>
                </a:solidFill>
                <a:latin typeface="Arial"/>
              </a:rPr>
              <a:t>Two Classes (table and column)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Oratc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1" marL="762120" indent="-304920">
              <a:spcBef>
                <a:spcPts val="400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a80002"/>
                </a:solidFill>
                <a:latin typeface="Arial"/>
              </a:rPr>
              <a:t>Version 3.1 (one year ago)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lvl="1" marL="762120" indent="-304920">
              <a:spcBef>
                <a:spcPts val="400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a80002"/>
                </a:solidFill>
                <a:latin typeface="Arial"/>
              </a:rPr>
              <a:t>Unable to use later versions (no downwards compatibility)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Mclistbox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Recursive functions for splitting nested datatype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157320" y="2575080"/>
            <a:ext cx="1018800" cy="178920"/>
            <a:chOff x="157320" y="2575080"/>
            <a:chExt cx="1018800" cy="178920"/>
          </a:xfrm>
        </p:grpSpPr>
        <p:sp>
          <p:nvSpPr>
            <p:cNvPr id="321" name=""/>
            <p:cNvSpPr/>
            <p:nvPr/>
          </p:nvSpPr>
          <p:spPr>
            <a:xfrm>
              <a:off x="157320" y="273708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58760" y="257508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323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divider%20page" descr=""/>
          <p:cNvPicPr/>
          <p:nvPr/>
        </p:nvPicPr>
        <p:blipFill>
          <a:blip r:embed="rId1"/>
          <a:stretch/>
        </p:blipFill>
        <p:spPr>
          <a:xfrm>
            <a:off x="0" y="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25" name="divider%20page" descr=""/>
          <p:cNvPicPr/>
          <p:nvPr/>
        </p:nvPicPr>
        <p:blipFill>
          <a:blip r:embed="rId2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/>
          <p:nvPr/>
        </p:nvSpPr>
        <p:spPr>
          <a:xfrm>
            <a:off x="63360" y="148104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mpany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74600" y="1898640"/>
            <a:ext cx="1201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Target Valida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96840" y="2494080"/>
            <a:ext cx="1279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Antibody Leads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476280" y="1622520"/>
            <a:ext cx="955800" cy="149040"/>
            <a:chOff x="476280" y="1622520"/>
            <a:chExt cx="955800" cy="149040"/>
          </a:xfrm>
        </p:grpSpPr>
        <p:sp>
          <p:nvSpPr>
            <p:cNvPr id="330" name=""/>
            <p:cNvSpPr/>
            <p:nvPr/>
          </p:nvSpPr>
          <p:spPr>
            <a:xfrm>
              <a:off x="476280" y="1757520"/>
              <a:ext cx="955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77720" y="1622520"/>
              <a:ext cx="0" cy="1490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332" name=""/>
          <p:cNvSpPr/>
          <p:nvPr/>
        </p:nvSpPr>
        <p:spPr>
          <a:xfrm>
            <a:off x="466560" y="3062160"/>
            <a:ext cx="90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Business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66560" y="3468600"/>
            <a:ext cx="90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Finance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523880" y="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a50021"/>
                </a:solidFill>
                <a:latin typeface="Arial"/>
              </a:rPr>
              <a:t>Xerion extends its value chain  </a:t>
            </a:r>
            <a:endParaRPr b="0" lang="en-US" sz="2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335" name="divider%20page" descr=""/>
          <p:cNvPicPr/>
          <p:nvPr/>
        </p:nvPicPr>
        <p:blipFill>
          <a:blip r:embed="rId3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36" name="divider%20page" descr=""/>
          <p:cNvPicPr/>
          <p:nvPr/>
        </p:nvPicPr>
        <p:blipFill>
          <a:blip r:embed="rId4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37" name="divider%20page" descr=""/>
          <p:cNvPicPr/>
          <p:nvPr/>
        </p:nvPicPr>
        <p:blipFill>
          <a:blip r:embed="rId5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38" name="divider%20page" descr=""/>
          <p:cNvPicPr/>
          <p:nvPr/>
        </p:nvPicPr>
        <p:blipFill>
          <a:blip r:embed="rId6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39" name="divider%20page" descr=""/>
          <p:cNvPicPr/>
          <p:nvPr/>
        </p:nvPicPr>
        <p:blipFill>
          <a:blip r:embed="rId7"/>
          <a:stretch/>
        </p:blipFill>
        <p:spPr>
          <a:xfrm>
            <a:off x="-157320" y="-324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40" name="divider%20page" descr=""/>
          <p:cNvPicPr/>
          <p:nvPr/>
        </p:nvPicPr>
        <p:blipFill>
          <a:blip r:embed="rId8"/>
          <a:stretch/>
        </p:blipFill>
        <p:spPr>
          <a:xfrm>
            <a:off x="-157320" y="-324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41" name="divider%20page" descr=""/>
          <p:cNvPicPr/>
          <p:nvPr/>
        </p:nvPicPr>
        <p:blipFill>
          <a:blip r:embed="rId9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42" name="divider%20page" descr=""/>
          <p:cNvPicPr/>
          <p:nvPr/>
        </p:nvPicPr>
        <p:blipFill>
          <a:blip r:embed="rId10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/>
          <p:nvPr/>
        </p:nvSpPr>
        <p:spPr>
          <a:xfrm>
            <a:off x="482760" y="228600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a80002"/>
                </a:solidFill>
                <a:latin typeface="Arial"/>
              </a:rPr>
              <a:t>THANK YOU</a:t>
            </a:r>
            <a:endParaRPr b="0" lang="en-US" sz="24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divider%20page" descr=""/>
          <p:cNvPicPr/>
          <p:nvPr/>
        </p:nvPicPr>
        <p:blipFill>
          <a:blip r:embed="rId1"/>
          <a:stretch/>
        </p:blipFill>
        <p:spPr>
          <a:xfrm>
            <a:off x="-12600" y="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82760" y="228600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a80002"/>
                </a:solidFill>
                <a:latin typeface="Arial"/>
              </a:rPr>
              <a:t>ORASTATE examples</a:t>
            </a:r>
            <a:endParaRPr b="0" lang="en-US" sz="24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LOGIN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6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69" name="login" descr=""/>
          <p:cNvPicPr/>
          <p:nvPr/>
        </p:nvPicPr>
        <p:blipFill>
          <a:blip r:embed="rId1"/>
          <a:stretch/>
        </p:blipFill>
        <p:spPr>
          <a:xfrm>
            <a:off x="1940040" y="1719360"/>
            <a:ext cx="6526080" cy="31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Example 1 – Three simple tabl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able Person (ID, Firstname, Lastname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able Address (ID, Street, City, Zip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able LivesIn (person_id, address_id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75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tabl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Goal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Create a graphical representation of the database.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83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Main Window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90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93" name="classic1" descr=""/>
          <p:cNvPicPr/>
          <p:nvPr/>
        </p:nvPicPr>
        <p:blipFill>
          <a:blip r:embed="rId1"/>
          <a:stretch/>
        </p:blipFill>
        <p:spPr>
          <a:xfrm>
            <a:off x="1457280" y="1871640"/>
            <a:ext cx="7686720" cy="42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Middle Button Shows Typ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98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01" name="classic2" descr=""/>
          <p:cNvPicPr/>
          <p:nvPr/>
        </p:nvPicPr>
        <p:blipFill>
          <a:blip r:embed="rId1"/>
          <a:stretch/>
        </p:blipFill>
        <p:spPr>
          <a:xfrm>
            <a:off x="1465200" y="1760400"/>
            <a:ext cx="7678800" cy="42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30T20:20:36Z</dcterms:created>
  <dc:creator>ajaksch</dc:creator>
  <dc:description/>
  <dc:language>en-US</dc:language>
  <cp:lastModifiedBy>Martin Fickert</cp:lastModifiedBy>
  <dcterms:modified xsi:type="dcterms:W3CDTF">2003-05-14T14:36:27Z</dcterms:modified>
  <cp:revision>96</cp:revision>
  <dc:subject/>
  <dc:title>PowerPoint-Präsentation</dc:title>
</cp:coreProperties>
</file>