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19894"/>
        <c:axId val="93066624"/>
      </c:barChart>
      <c:catAx>
        <c:axId val="56219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66624"/>
        <c:crosses val="autoZero"/>
        <c:auto val="1"/>
        <c:lblAlgn val="ctr"/>
        <c:lblOffset val="100"/>
        <c:noMultiLvlLbl val="0"/>
      </c:catAx>
      <c:valAx>
        <c:axId val="93066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19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ED9-4194-4CFA-B81B-70150613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A54-1E71-4A1F-AF48-D9820F9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0C3-3963-4CF5-9504-EA9C79B7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AF4-DF02-444A-9B21-3DEBD957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F3B-BFA9-4F04-B0CD-194F9D06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562-E022-48F9-A635-1617C2AF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232-B600-4FAE-A5F9-4F1CDCEB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946-07E1-4DE6-B0D9-5F42203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334-4609-495A-BD8F-CCEB987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F6E-81EF-4055-8EE2-8567FBE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157-4974-4721-A26B-666695E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7B1-8B0E-444A-BCF7-4DF53AE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3C100-AA24-411C-B55D-781C3AB7CB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