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73644"/>
        <c:axId val="65517297"/>
      </c:barChart>
      <c:catAx>
        <c:axId val="77273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17297"/>
        <c:crosses val="autoZero"/>
        <c:auto val="1"/>
        <c:lblAlgn val="ctr"/>
        <c:lblOffset val="100"/>
        <c:noMultiLvlLbl val="0"/>
      </c:catAx>
      <c:valAx>
        <c:axId val="65517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73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BB8-0817-4DE7-BA68-BB28856C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735-B77C-4D41-BA1B-7A31F846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C37-A910-4DE5-B3E6-084AB16D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0EF-C5E8-4ABB-9A70-DE420762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582-B83C-49CB-9DA9-A92ECFF1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DDA-309D-4693-995D-65CCC672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8E3-B588-4EF6-B434-812079DB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30A-F29B-4E2B-A03C-615104BE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EEA-A39F-4658-BFF2-7C1F0D37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B72-5B89-4D84-A8B8-830E9F4F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B1E-600E-47EA-B02C-1F4F930B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998-43E8-4B70-8545-784404FF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51B13-3FB6-4C0B-9184-30DE39CE5A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