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64874"/>
        <c:axId val="84731671"/>
      </c:barChart>
      <c:catAx>
        <c:axId val="53464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31671"/>
        <c:crosses val="autoZero"/>
        <c:auto val="1"/>
        <c:lblAlgn val="ctr"/>
        <c:lblOffset val="100"/>
        <c:noMultiLvlLbl val="0"/>
      </c:catAx>
      <c:valAx>
        <c:axId val="84731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4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5A6-D191-4D66-BDCA-AED00F9F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2CE-F665-4611-8833-DA6322FD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49F-83A7-498D-B57A-63AEAF69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DA4-F82E-4CAF-81DC-15F64F95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A8B-2507-409B-90B7-8199A7C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375-3BDE-4AE6-8479-6FBDC943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F7E-B7AB-4B74-AAEB-C2D1991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804-DB2D-4A6E-B5A8-3EA2F95E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1AF-1102-4393-9B55-F414983C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4F1-C607-4547-8606-3B1495D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C60-B6FE-49E2-B78B-3776936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BF8-2AC4-4E6C-8CDA-1F94520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F2F95-8B1D-4C2C-A8DA-2BE32F26C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