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0"/>
        <c:axId val="8666890"/>
      </c:barChart>
      <c:catAx>
        <c:axId val="4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6890"/>
        <c:crosses val="autoZero"/>
        <c:auto val="1"/>
        <c:lblAlgn val="ctr"/>
        <c:lblOffset val="100"/>
        <c:noMultiLvlLbl val="0"/>
      </c:catAx>
      <c:valAx>
        <c:axId val="8666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573-A401-41AB-B6E6-22CF7580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03A3-9543-4B99-991D-A5948D6F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4D7-FBF8-4688-9D80-9E232FB1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50D1-98E5-44BF-8BE7-1E34C2D0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F6FA-82E3-4E02-A297-8E5AA3DE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97A-F640-4FB4-8A2C-13BE5997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2897-1A19-4553-941E-33D31352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A92-3458-4FBD-952F-DA603326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9B0F-A324-431A-B795-E2F30EDE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77F-5508-4188-BAA9-C7E192B4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6D25-5FF0-43B0-9618-23AEF463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CB73-3DE6-4348-8042-7E31E26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FD15CF-0877-494F-A759-869ECD64F8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