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30387"/>
        <c:axId val="27618211"/>
      </c:barChart>
      <c:catAx>
        <c:axId val="23330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18211"/>
        <c:crosses val="autoZero"/>
        <c:auto val="1"/>
        <c:lblAlgn val="ctr"/>
        <c:lblOffset val="100"/>
        <c:noMultiLvlLbl val="0"/>
      </c:catAx>
      <c:valAx>
        <c:axId val="27618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30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FAE-CCC4-422E-A613-EEFE5A4D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97B-26AE-4690-B67D-A0E542D9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6B0-B1B0-4BAE-97C8-B1EC0DDE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3B4-3BC8-46C0-B385-4CEC1612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199-FFEC-4235-B25B-C33E6FA6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413-AF3E-4157-98C3-B2F2E441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05D-49B2-4EA9-9115-C9B56D13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352-81FE-44F0-887C-8EBD9A43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F8A-C4A4-4EFD-A69A-EF73F3DC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BED-6F76-4428-B998-B93083B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2F8-D0AC-4050-BCC4-6741D5D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C39-328C-4D55-BF45-D1FEC99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4C6F5-168F-437E-8A34-052E28645C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