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267075"/>
        <c:axId val="73405807"/>
      </c:barChart>
      <c:catAx>
        <c:axId val="172670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05807"/>
        <c:crosses val="autoZero"/>
        <c:auto val="1"/>
        <c:lblAlgn val="ctr"/>
        <c:lblOffset val="100"/>
        <c:noMultiLvlLbl val="0"/>
      </c:catAx>
      <c:valAx>
        <c:axId val="734058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670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0855-7947-445C-A938-9A050E19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6BC4-B9FF-4AB2-8877-08C272BF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E76B-B2E9-46D6-8B30-41AFA38B9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CB3C-58F6-428D-88FA-D9B32259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BECD-88B2-4584-93A6-126D9F7E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78BA-D459-4A42-87E0-42AB3B09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0827-CEBA-4C29-A1E9-3CC4B450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AAA2-91E4-481F-8E4B-A9C3E446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703B-CF5A-407A-AAF3-6669F965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C4EA-8A53-43EC-AA6D-7229EC0F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6925-DB7E-4EBA-BBFD-E478D714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FE84-D36C-4DCF-B69E-45F80EF2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92144-66A6-4475-96F2-5B379DFD5B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