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31719"/>
        <c:axId val="56257441"/>
      </c:barChart>
      <c:catAx>
        <c:axId val="93731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57441"/>
        <c:crosses val="autoZero"/>
        <c:auto val="1"/>
        <c:lblAlgn val="ctr"/>
        <c:lblOffset val="100"/>
        <c:noMultiLvlLbl val="0"/>
      </c:catAx>
      <c:valAx>
        <c:axId val="56257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31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A94-A05D-44F5-9729-9F5340FC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FCC-6B02-48F7-9565-FB528868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BF9-3767-455B-937E-03E66F2D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8F9-C065-4A0B-BC75-610847EF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023-0DBF-4E4F-A04F-01B5E9AD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CEE-26B0-40DA-B50E-D7D9B18F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03A-842D-4ED2-97E4-E770B1B6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327-878C-458D-AA97-E80D246F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E1E-3DC7-4906-B577-BC78B4DE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AF2-2F9D-4F06-8ED1-93F12A5E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358-6DA6-415D-AB11-9722ECBD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ED4-79B8-40F4-B4B9-A47192C4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3FFED-4032-4A89-9B40-843CF90BBF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