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1936"/>
        <c:axId val="56112750"/>
      </c:barChart>
      <c:catAx>
        <c:axId val="9401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12750"/>
        <c:crosses val="autoZero"/>
        <c:auto val="1"/>
        <c:lblAlgn val="ctr"/>
        <c:lblOffset val="100"/>
        <c:noMultiLvlLbl val="0"/>
      </c:catAx>
      <c:valAx>
        <c:axId val="56112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1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B8C-9058-4CD7-B070-E1E7106A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BFF-A2C6-4434-B0AE-4DD1E322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29A-A131-46E1-B850-912C8368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DAA-2A5B-4CF5-91B8-B6EAF36A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A44-8127-45AE-95D8-E19F2DAC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D2A-ECB5-4B45-B278-FEAFDCB6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6CB-6D84-41D6-9E38-272DE034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58D-4C2C-4D13-9AF4-278BB0A7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A6F-F092-4A62-8A50-0BF51004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B52-37B4-481F-BB8C-5C5B6B8B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4DB-9BF9-483A-BCCA-6321C91E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15E-E0AE-48DF-BA28-B0D663D7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22B32-E38B-495A-B2E1-38B58714F5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