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10341"/>
        <c:axId val="93265602"/>
      </c:barChart>
      <c:catAx>
        <c:axId val="52910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65602"/>
        <c:crosses val="autoZero"/>
        <c:auto val="1"/>
        <c:lblAlgn val="ctr"/>
        <c:lblOffset val="100"/>
        <c:noMultiLvlLbl val="0"/>
      </c:catAx>
      <c:valAx>
        <c:axId val="93265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10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D0C-E9E9-4DC4-8E9C-0A8D962A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D10-C202-4B7E-B18B-A7D21CF4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E87-597D-4D79-862C-CE97105C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0C3-58FE-4853-B7EF-F9875D3B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3B4-AAD2-42EE-A164-B07A9277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5E9-AA72-417B-B5AE-A6321BDA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ACC-4785-4BF2-986D-65586513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CCE-0FB0-4ABC-86A8-47855254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D74-63E0-48F0-BF66-CDADBBD8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979-DFC3-46E0-870D-685F4390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53B-4CCD-4BDB-B87E-E8F56316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283-B6CA-41C1-B1C0-746F143D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01FDC-E5C3-4C2D-9C18-E2B2479CA7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