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63710"/>
        <c:axId val="30486835"/>
      </c:barChart>
      <c:catAx>
        <c:axId val="71863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86835"/>
        <c:crosses val="autoZero"/>
        <c:auto val="1"/>
        <c:lblAlgn val="ctr"/>
        <c:lblOffset val="100"/>
        <c:noMultiLvlLbl val="0"/>
      </c:catAx>
      <c:valAx>
        <c:axId val="30486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63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53F-6409-45E5-93F5-EBD8F47B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C3D-E203-48D1-ADBF-48DDDBB0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F6C-A2F3-4FE3-BBE6-30BC5511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F43-63FE-44AF-9D64-DD4391D2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9D1-DA96-4ED4-B914-3AC81FF3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1F3-FC36-4326-9261-6879B40C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EAA9-75EF-4AF0-B958-D9D99229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038-A918-469B-A6E9-F9C69FDF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960-5769-4DA9-B4C3-FBFEC646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004-393D-460A-A335-869CFA64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6E1-1A0D-4008-8019-DCC147D5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1FE-7213-48E8-B0C5-413440C1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F3538-FF45-436A-A507-B6748D09A5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