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944742"/>
        <c:axId val="87961928"/>
      </c:barChart>
      <c:catAx>
        <c:axId val="289447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61928"/>
        <c:crosses val="autoZero"/>
        <c:auto val="1"/>
        <c:lblAlgn val="ctr"/>
        <c:lblOffset val="100"/>
        <c:noMultiLvlLbl val="0"/>
      </c:catAx>
      <c:valAx>
        <c:axId val="879619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9447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176B-C004-4208-9FA8-1082460B0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E6A5-8A52-40AD-AEF1-FF71B5EB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6826-5C04-46C8-9BD9-BCC2F7849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6766-B20C-40E5-B917-34E160FF5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FB3B-6A65-4118-8715-2301EC7A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5FFC-BE63-4CD1-96AE-EA0CABF6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FBCA-1D42-49BC-8725-B8EB5E95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9AD4-7727-4941-A084-B5BCB6D3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5250-615D-4161-A024-D977A098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3D92-6C8D-4AF5-A670-DA22E7CB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754B-5A19-4AA6-9004-AB329451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0197-7A09-41C1-B626-2C951FAE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DDB88-4A74-49F5-8F95-2B03B782E5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