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62687"/>
        <c:axId val="87364414"/>
      </c:barChart>
      <c:catAx>
        <c:axId val="60162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4414"/>
        <c:crosses val="autoZero"/>
        <c:auto val="1"/>
        <c:lblAlgn val="ctr"/>
        <c:lblOffset val="100"/>
        <c:noMultiLvlLbl val="0"/>
      </c:catAx>
      <c:valAx>
        <c:axId val="87364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2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7E6-362F-45C5-8615-88F9AA8B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160-1A52-48D5-83A8-8E09256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C83-A6BD-493C-8BCB-937BF3DE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81D-A1E4-4A53-9163-BA146339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3DB-4AA7-4D52-96E8-F4D59532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63F-F30E-4567-9C4B-35AAD0C4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D6A-0A00-4A1E-8728-48EF0B6D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E24-DA82-47F4-98BF-9E646AFD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648-F212-41A0-94D4-FA027DB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FE5-F53B-4B0E-AF31-5A107EC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F6D-785E-48C1-B9B7-CFFD7C4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BC1-5FF2-4CA5-B86B-C6BF5DB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72299-5B89-406F-BADE-BBF63ECF0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