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08809"/>
        <c:axId val="66318262"/>
      </c:barChart>
      <c:catAx>
        <c:axId val="34908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8262"/>
        <c:crosses val="autoZero"/>
        <c:auto val="1"/>
        <c:lblAlgn val="ctr"/>
        <c:lblOffset val="100"/>
        <c:noMultiLvlLbl val="0"/>
      </c:catAx>
      <c:valAx>
        <c:axId val="66318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08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C0F-2C2D-4DC0-81A8-DDA0B937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131-7F50-45F0-A690-0C336C7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EC0-BDCD-468A-8361-E6F44F6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346-52B5-4407-9737-C6273D4A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BC1-7B9A-4AB0-901B-8A3F68B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F43-2003-44D5-A599-009554CE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387-BC90-4095-A27D-9DEC2CB2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09A-D55D-4A71-BD61-881266DB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304-201D-4F45-BE9E-8EE1279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CC0-5EA6-4EF1-BF52-AA365C74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8AE-C333-4AB4-868C-C060606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E24-ED2B-4BCF-9AAB-9D6C3B5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DD790-BB65-4AF2-922F-2FD9782C9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