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87380"/>
        <c:axId val="24115253"/>
      </c:barChart>
      <c:catAx>
        <c:axId val="971873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15253"/>
        <c:crosses val="autoZero"/>
        <c:auto val="1"/>
        <c:lblAlgn val="ctr"/>
        <c:lblOffset val="100"/>
        <c:noMultiLvlLbl val="0"/>
      </c:catAx>
      <c:valAx>
        <c:axId val="241152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873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D882-7E14-430A-A698-5CC1F97F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103E-13A3-45C5-8500-D1EBA345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D20-FE32-4CE9-93E1-A35B28AB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03F2-F17F-448F-8EC6-EB90D8F7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27D1-30EC-4776-9131-516396BD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2CB-D2E9-4130-BE7A-8009FD7D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F8B3-8779-4650-BCAA-D8141777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EE1E-7C57-472A-9DDE-13FD1119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B0E5-5A24-4142-8B0B-C5FF29E2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EC21-D55C-4147-AFBE-AB1C8CE4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ED2B-1BD9-46C5-AEE7-9E96002C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FEE-F5E8-4B4A-B838-665BC54D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DBF20-FCC8-467F-94A3-E223E0F629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