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21366"/>
        <c:axId val="28061720"/>
      </c:barChart>
      <c:catAx>
        <c:axId val="585213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61720"/>
        <c:crosses val="autoZero"/>
        <c:auto val="1"/>
        <c:lblAlgn val="ctr"/>
        <c:lblOffset val="100"/>
        <c:noMultiLvlLbl val="0"/>
      </c:catAx>
      <c:valAx>
        <c:axId val="28061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213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99EA-03BA-4312-9C1A-872AC048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EA66-51C0-4949-A413-84F4D683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3C2-F8E0-4229-844A-03DCB00B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7836-93EC-4A09-A183-C1DC2881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4672-5CBE-4CF5-ABBA-29CDDDFF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04B4-67C5-4789-9D50-E40F84A1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B4FD-4609-42D1-AB18-A3FB8FEF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DD77-4616-45CE-8C90-32159392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58C2-D632-40A7-95ED-65BE7555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0636-069B-44E4-B6A7-92C91F2C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60F9-542B-4BC5-B730-6594F90D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4DA3-0984-4A85-8A2B-F581132B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92324-998C-497F-9334-BC6474E34B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