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67930"/>
        <c:axId val="8687304"/>
      </c:barChart>
      <c:catAx>
        <c:axId val="13367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7304"/>
        <c:crosses val="autoZero"/>
        <c:auto val="1"/>
        <c:lblAlgn val="ctr"/>
        <c:lblOffset val="100"/>
        <c:noMultiLvlLbl val="0"/>
      </c:catAx>
      <c:valAx>
        <c:axId val="8687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67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470-9291-420E-814F-96E02758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3D2-F622-4745-82A9-32C8EEDE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BBF-814F-43FF-82C6-5944DB0B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E3B-DAA4-48E5-B288-C07D1D6D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F68-40D9-452D-8FC3-35B2181E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51F-7C8F-4F51-9756-07B5D1B0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E4E-DBA7-4A69-BFF2-3658A1E0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8D9-5450-4AD1-BF2C-7CFBDC72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A73-56BE-4059-B13A-6AE5A28B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0B8-811A-4F04-BAF0-2BF82C22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BB1-4F34-4A98-ABFE-6180E6E8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24D-2D84-439F-A2F7-CBFA40B6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9F8CA-5C64-4F59-AF31-1C81FFF9B5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