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85711"/>
        <c:axId val="30644734"/>
      </c:barChart>
      <c:catAx>
        <c:axId val="439857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44734"/>
        <c:crosses val="autoZero"/>
        <c:auto val="1"/>
        <c:lblAlgn val="ctr"/>
        <c:lblOffset val="100"/>
        <c:noMultiLvlLbl val="0"/>
      </c:catAx>
      <c:valAx>
        <c:axId val="306447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857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762E-C438-43C3-8E23-5A720BC0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473A-98B9-469C-B274-6C43B440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BB91-7185-4D38-BDC3-4B5CDA74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8D7E-1331-4E3A-AD5D-72B101DF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2300-849A-4374-9C52-D33B4B18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5806-2E1A-459A-9752-DE1BB60A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28BA-211E-4079-BDCE-D65AC400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72B4-F5CE-4DD1-81B4-11F5B1FE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8A59-3BC2-4EE1-8304-952E3204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1F77-843F-4B42-AD81-F35033B7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4162-49CC-4835-995D-D48590CF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599A-6FCD-4E0A-AD2A-9E277479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DA63A-59FF-48C1-931B-717FA8CD7E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