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50075"/>
        <c:axId val="11328917"/>
      </c:barChart>
      <c:catAx>
        <c:axId val="71750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28917"/>
        <c:crosses val="autoZero"/>
        <c:auto val="1"/>
        <c:lblAlgn val="ctr"/>
        <c:lblOffset val="100"/>
        <c:noMultiLvlLbl val="0"/>
      </c:catAx>
      <c:valAx>
        <c:axId val="11328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50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4DA-7F0B-4A42-A914-046EA62A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F4D-EF1E-459F-AF72-79125891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F26-4A3F-4C60-A3D6-61E1C423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459F-2DAF-4E21-8D18-8FA00708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FE4-A43D-48C0-B249-D4B5CA7E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C83-9211-45B5-807A-08B68EDA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7C8-4AAE-4E40-BDE3-6D85593A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9D5-F99F-4264-9170-3FC6A58C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69A-8A9C-4C31-A2EE-FA701FEC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436-CA05-4207-83F1-A36D41E4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D47-0597-475D-8902-107703FF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9FB-3D21-48FE-8975-A9E6ABF3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F4440-698F-4248-85CA-8C6038C6CD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