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95383"/>
        <c:axId val="98397863"/>
      </c:barChart>
      <c:catAx>
        <c:axId val="50295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97863"/>
        <c:crosses val="autoZero"/>
        <c:auto val="1"/>
        <c:lblAlgn val="ctr"/>
        <c:lblOffset val="100"/>
        <c:noMultiLvlLbl val="0"/>
      </c:catAx>
      <c:valAx>
        <c:axId val="98397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95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83D-9197-4821-8DE6-5EF5E0F2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630-3468-4B62-B778-F5589188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320-6B9A-4E15-87C9-85BC7E2D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856-9624-430C-B761-A9704450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3AF-AB41-489B-BC8C-AB95CC2C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E75-4AA3-415E-A958-F8A76DBA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C15-D98B-4487-B561-EDD8BBDD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95D-5103-4DC2-880D-607EF19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C39-BDBC-4E97-8BB7-9E8F9651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755-AC53-4B11-8139-8DCD4D6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2DC-154F-4D66-8002-4991C76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774-706B-4FA6-9208-A1A92CC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E3470-AAB1-455E-BF4F-AB981B57E3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