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91789"/>
        <c:axId val="69925607"/>
      </c:barChart>
      <c:catAx>
        <c:axId val="9429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25607"/>
        <c:crosses val="autoZero"/>
        <c:auto val="1"/>
        <c:lblAlgn val="ctr"/>
        <c:lblOffset val="100"/>
        <c:noMultiLvlLbl val="0"/>
      </c:catAx>
      <c:valAx>
        <c:axId val="69925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7F6-BD31-43B7-9117-40FE53F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9AD-2396-4A1E-895D-6389436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AE7-A4BF-4F71-B3EC-CCDAF110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747-6A44-4138-B9A2-306D869E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2C0-39C4-4923-BAF7-B990601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310-BCAD-4604-A1AE-45B883E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5EB-A131-43C9-BB76-63CA4DCA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FC0-67C7-4BB9-867C-D7C3EE32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C56-3889-4487-A85A-86110692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AD-7DD2-4B43-91A7-F369947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664-BB16-43EF-868E-E859FDB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1ED-4728-4125-B4B2-19482A2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F87C8-CA31-4A52-B817-025748C4D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