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4595970"/>
        <c:axId val="21953989"/>
      </c:barChart>
      <c:catAx>
        <c:axId val="9459597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953989"/>
        <c:crosses val="autoZero"/>
        <c:auto val="1"/>
        <c:lblAlgn val="ctr"/>
        <c:lblOffset val="100"/>
        <c:noMultiLvlLbl val="0"/>
      </c:catAx>
      <c:valAx>
        <c:axId val="2195398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59597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3BFFA-AE72-4955-AE00-DDB9A7419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AA5C1-01D3-4018-A8C0-8FBB40827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35637-0138-4C53-89F8-E9B82CD39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F879F-D82E-4847-B539-33CE8EF81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6C722-EFAD-4780-954C-C367EEDA9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6CD14-18C3-4F2A-BCB3-E02F116C7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39AA0-2A45-4CD0-9D60-42371B515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651F4-FFA3-432E-842B-B8414C7F1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AA153-2A20-46F6-8322-886D37F05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C9830-3626-4F13-A948-80CA2126A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C625A-EF26-4CBD-AF20-FDC6C3802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EA7EB-3353-42CF-BC98-121D7E052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4B9D84-009A-425D-8308-D068E068CEF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