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61975"/>
        <c:axId val="41433230"/>
      </c:barChart>
      <c:catAx>
        <c:axId val="4636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3230"/>
        <c:crosses val="autoZero"/>
        <c:auto val="1"/>
        <c:lblAlgn val="ctr"/>
        <c:lblOffset val="100"/>
        <c:noMultiLvlLbl val="0"/>
      </c:catAx>
      <c:valAx>
        <c:axId val="41433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F25-C2E2-4A9F-B17A-4FCE33FD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52E-92BA-4415-B6A8-D9EB7BC9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2EE-9286-428A-8E6E-9443DC0A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459-3156-418A-929A-33405CFB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633-2982-4362-B943-F487A36F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09C-2F7A-4DB2-AB31-F7D5E02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4E5-7AE0-4785-8F51-6C698BAC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21F-A814-4BD4-AED8-0D0CB40F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7E1-2796-4781-9C3A-A0F3AB8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2BF-87C1-458D-821C-F04572C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392-A2B8-4674-86AF-1B1ACD4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5AF-0E9B-4303-B6B1-A463A7FE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19FF-C10C-4667-A925-8F836F246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