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258348"/>
        <c:axId val="27589973"/>
      </c:barChart>
      <c:catAx>
        <c:axId val="932583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89973"/>
        <c:crosses val="autoZero"/>
        <c:auto val="1"/>
        <c:lblAlgn val="ctr"/>
        <c:lblOffset val="100"/>
        <c:noMultiLvlLbl val="0"/>
      </c:catAx>
      <c:valAx>
        <c:axId val="275899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583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47A8-40B9-4A0D-B6E5-49ADB806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7F20-124A-436D-832C-122A9D66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8060-ADEC-4026-87F2-4AD1FEDC2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ABF7-8F94-4872-BC18-CBBA4DB2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E972-9499-4506-8CA8-D1FF7FAA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06EE-AB70-4300-96A3-CFC0FA29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4ACE-6536-4D6B-810D-2821E512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B3A3-68FE-42E1-A76A-2FDADFE1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EC7D-3FC5-4013-87BF-099E04E9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65AD-EBB1-4B93-8547-4EE9EB99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AEBF-AD48-4ECD-BBED-5AA74CE2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A988-8195-4618-A2C3-24465CD7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D6BD8-64CC-4057-827E-AF838D1F0C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