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98737"/>
        <c:axId val="94303205"/>
      </c:barChart>
      <c:catAx>
        <c:axId val="51898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03205"/>
        <c:crosses val="autoZero"/>
        <c:auto val="1"/>
        <c:lblAlgn val="ctr"/>
        <c:lblOffset val="100"/>
        <c:noMultiLvlLbl val="0"/>
      </c:catAx>
      <c:valAx>
        <c:axId val="94303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98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4CF-090E-475A-967C-41145B5A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EDF-D01D-4840-ACAD-4EE1AC57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789-119B-4CFA-AE48-55FF002C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73C-A7C4-40E9-B69F-82B09002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5E3-9424-4812-B6FD-3D3BB23E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586-5BAE-4A67-AC6A-0BB1EE6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6F6-387E-4B5B-9DF9-BA9FD7E2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EEB-79FF-4DA8-864B-6F0BD6FC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E46-36AC-4D1B-9A09-0FBADDFD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632-E729-445E-ADC5-C948D7A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F25-6EE7-4D82-B8F0-5806F32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24C-09F3-4885-88FD-2A9E9A4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78887-D110-491A-B6F4-F6ED9F3B3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