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58178"/>
        <c:axId val="92818410"/>
      </c:barChart>
      <c:catAx>
        <c:axId val="85158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18410"/>
        <c:crosses val="autoZero"/>
        <c:auto val="1"/>
        <c:lblAlgn val="ctr"/>
        <c:lblOffset val="100"/>
        <c:noMultiLvlLbl val="0"/>
      </c:catAx>
      <c:valAx>
        <c:axId val="92818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58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A18-8449-4D15-93CC-2F4BC1BD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1C0-19BE-4164-9567-1CF84D46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C74-A208-4637-9D66-FB96847F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5FD-532B-45CF-BA6F-90E16AE1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7E9-E3CD-4541-ADC2-ABB58405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A40-0C49-4B12-98AF-D5C071C2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FB6-12B8-4227-BDAC-5F5A93CB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4D6-7EC7-4E6B-BD7C-0BB7704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23D-9419-4C9D-B563-8D02992C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B8D-99ED-4AF2-ACFC-503B579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2C3-5D80-4A74-BC75-16D0DEC0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559-3394-43A2-B1F8-39CC4847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B728E-2AB6-48C2-A1DA-2C3BD002AF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