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99507"/>
        <c:axId val="28264916"/>
      </c:barChart>
      <c:catAx>
        <c:axId val="10699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64916"/>
        <c:crosses val="autoZero"/>
        <c:auto val="1"/>
        <c:lblAlgn val="ctr"/>
        <c:lblOffset val="100"/>
        <c:noMultiLvlLbl val="0"/>
      </c:catAx>
      <c:valAx>
        <c:axId val="28264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99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D23-0F0C-40D9-80F3-AD0FCCE4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1B4-4573-43F7-B88D-786ED572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15C-285F-41F9-AB02-B40474B0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1F7-486D-43D4-9610-6DEA0B22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A1C-B325-464C-9773-34050904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639-D367-45A0-A301-732DF1C9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766-B1C8-441C-83FD-B782A1ED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806-22B6-461C-B95E-AD86D202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9F0-626B-4244-BFAB-BDC8FE5C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4DF-9C68-4E21-BBF3-3F254052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6B9-C0E3-44F9-B999-0E40BC76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78F-E712-46B3-90E0-28A7FA76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BD15D-9380-40F8-A8A9-56988FE85B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